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C4C-46E4-4C2F-AE0C-0AA020D3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E458-6A26-4216-B37C-6E118B16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F21-E8D0-458D-AC04-8B43D49B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8B4-0C0D-4EAF-BD55-1E4CCD1A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3804-8FBC-452B-A66A-02733BF6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01C-5FAF-4E38-9ACA-09C3B0A4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F67-2491-4A6E-AD00-32A9D206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ABD-5D93-48C2-8F75-E87C1A15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4EF-0A3E-4AE5-B761-DAEF1D0C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478-1AE8-4D92-B3AC-045B02A5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C9BC-C2FF-4360-AA72-6E70592F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406-8C3E-4696-817A-8511120D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17ED-7D5C-42F2-B1EB-D8AE7B6B7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pas complexos: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63626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lisão BSP = auto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âm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BSP CAMERA COLLISION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Collision Index, Camera Num, Raio, Resp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dex 0..32 – números únicos (por obje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spost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0 = des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 = fica ultima posição li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lisão obj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 BSP OBJECT COLLISION Index, Object Num, Raio, Resp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ões úte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 Integer = BSP COLLISION HIT(Collision Ind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Colidindo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ult Float = BSP COLLISION X(Collision Ind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- Retorna colisão (deslizamento) em X, Y,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4818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imulação básica de gravida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VE OBJECT DOWN 1, gravidade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imulação de pu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riar estados: Subindo, caindo, ch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ntrolar velocidade Z com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pulando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OVE OBJECT UP 1, veloz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eloz# = veloz# -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veloz#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eloz#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ulando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66960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SP = binary space part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scrição de um espaço 3D com otimização de corte (cul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ulling = algoritmos de c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strar o que esta visível, não renderizar o resto da cena (segmentação do ma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timização  =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goritmos de corte: uma das principais diferenças entre engines (velocidade, tamanho dos mapas, número de elementos, FPS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SP Tree = subdivisão do mapa em partes, consistindo polígonos em ângulos menores que 180 (non-reflex angles) = seg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47640" y="2421000"/>
            <a:ext cx="604872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istemas usuais de partição do espaço 3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SP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Quad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c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goritmos complexos, mas altamente eficientes para corte de partes não visiveis em determinada posi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goritmos de corte: não são o foco da discip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iores informações: 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pas BSP: arquivos .PK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cote com a descrição do mapa BSP, texturas, mapeamento, iluminação,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K3 = Mapa compl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K3 = Quake 3 = DBPro (compatíve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ção com programas auxilia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D World Studio (U$ 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rtography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erramentas Quake (Half Lif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lve Hammer + Quake (F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6875640" cy="5116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apas pre-compilados: criação da BSP Tree = demanda 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dando = alta velocidade /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dição programas auxiliares: faci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Jogos profission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pas internos: BSP ou semelh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pas externos: Terrenos (advan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binação de ambos (maior parte ca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arregar um mapa BS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OAD BSP “file.PK3”, “file.BS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ormal: apenas arquivo PK3, leitura: BSP repetindo 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OAD BSP "20Kdm2.pk3", "20Kdm2.bsp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6350040" cy="3873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2920" y="5445000"/>
            <a:ext cx="78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apa criado com uma escala próp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demos adaptar nosso codigo para novo tamanho, velocidade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4:40:42Z</dcterms:created>
  <dc:creator>A.B.</dc:creator>
  <dc:description/>
  <dc:language>en-US</dc:language>
  <cp:lastModifiedBy>A.B.</cp:lastModifiedBy>
  <dcterms:modified xsi:type="dcterms:W3CDTF">2008-10-22T17:00:15Z</dcterms:modified>
  <cp:revision>3</cp:revision>
  <dc:subject/>
  <dc:title>Dark Basic Pro: Mapas complexos: BSP</dc:title>
</cp:coreProperties>
</file>