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70C-3D32-4B59-BF5C-6F95E69A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034-6395-4FE2-A004-FB712C8F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127-E758-4304-971E-149739AD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0BE-E10C-43FC-A616-51A8FEFB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6CB-DDFA-42DC-93CD-3C57099D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5ED-B4F1-4364-9088-A14DE87A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FB0-2AC4-4B04-91E8-3095235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18D-B031-48E9-9276-B783FBF2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414-07A3-4F46-87F1-9E13E987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3C9-AD01-451F-969A-994AD32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7D4-FC50-4292-8CE5-210BA71E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17C-1F89-41C2-883A-77AD194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7BC5-353A-4597-A8F2-218F38205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feitos com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f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BPRO – necessário usar SPRITEs animadas para alguns ef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ar a SPRITE animada 2D, na posição relativa 3D do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a animação da SPRITE (fr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ligar / remover sprite no final da ani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imagem precisa conter todos quadros da animação / efe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agem: “explo01+8.BM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clarando esta spr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AD IMAGE "explo01+8.BMP"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EATE ANIMATED SPRITE 1, "explo01+8.BMP", 8, 1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accross = 8, oito quadros posicionados lado a 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7561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cobrindo se um objeto 3D esta presente na t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_tela = OBJECT IN SCREEN 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na_tela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orna 1 se aparecendo 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 o objeto está na tela, é possível descobrir a coordenada 2D (de tela), relativa a sua posição 3D no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la_x = OBJECT SCREEN X 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la_y = OBJECT SCREEN Y 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tão podemos posicionar a sprite nesta posição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centralizar, é necessário corrigir a posição 2D, de acordo com o tamanho da SP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CORRIGE / CENTRALIZA PELO TAMANHO DA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la_x = tela_x - SPRITE WIDTH(num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la_y = tela_y - SPRITE HEIGHT(num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POSICIONA SP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PRITE 1, tela_x, tela_y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 a sprite posicionada, animamos, passando os quad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correção de velocidade pode ser necessária, mudando o quadro a cada X cicl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ta_ciclos = conta_ciclos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conta_ciclos &gt;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ta_ciclo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rame_sprite# = frame_sprite#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ET SPRITE FRAME 1, frame_sprite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inalizamos o efeito, desligamos a sprite, quando atingir o quadr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IF frame_sprite#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HIDE SPRI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ostra_efeito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feito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42:35Z</dcterms:created>
  <dc:creator>A.B.</dc:creator>
  <dc:description/>
  <dc:language>en-US</dc:language>
  <cp:lastModifiedBy>A.B.</cp:lastModifiedBy>
  <dcterms:modified xsi:type="dcterms:W3CDTF">2009-11-25T18:30:02Z</dcterms:modified>
  <cp:revision>13</cp:revision>
  <dc:subject/>
  <dc:title>Dark Basic Pro: Imagens, Sprites e Menus</dc:title>
</cp:coreProperties>
</file>