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ABF-42B0-49DA-A752-130AD02A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D46-B7F7-4DA5-9E63-4DAFDB4A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20B-6688-4E12-B904-40C4544E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71C-A509-4555-9C90-9383911D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198-5D60-4731-A674-0421AF9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9C1-34A8-469A-9215-DBE583D0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8D6-9A40-4A88-9BC0-6C7FBC12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5A5-5CF4-4867-BA4F-4E4E071A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051-298C-4784-ADEB-D43E53BE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A25-9296-4987-B969-D526866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B9F-A486-4122-858E-2452222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051-CD05-4627-8C3D-B7D0CCA2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0060-0B9A-4C5D-88F9-DEEF4EFE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s, Funções,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sições relativas e 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torno da função utilizo o nome interno (local) da variável usada para cálculo – re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ódigo normal recebo – recolho – o resultado da função em qualquer variável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ção super-útil (distância de dois objetos 3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calcula_distancia(num_obj1, 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 PEGO X,Y,Z - obje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x1 = OBJECT POSITION X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1 = OBJECT POSITION y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z1 = OBJECT POSITION Z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 PEGO X,Y,Z - obje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x2 = OBJECT POSITION X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2 = OBJECT POSITION y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z2 = OBJECT POSITION Z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CALCULO DISTANCIA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x = x1 - 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y = y1 - 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z = z1 - 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CALCULO DISTANCIA -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 = sqrt(dx*dx + dy*dy + dz*d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ções rel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ção relativa – independe do ângulo / direção do objeto ori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r trigonometria para calcular posições rel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 manter um objeto a frente (ou atrás) de outro, indiferente de seu ângulo de rota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ó é possível com uso de trigono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ções rel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lculo básico para posição rela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tancia1 = 5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gulo1 = OBJECT ANGLE Y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gulo2 = 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ângulo 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x# = playerx# + distancia1 * SIN(angulo1 + angulo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z# = playerz# + distancia1 * COS(angulo1 + angulo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y# = playery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3, novox#, novoy#, novo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sição relativa: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gar objetos junto com a câ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 pessoa: Interface – Arma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ção do objeto passa a ser em relação a câmera (não glob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K OBJECT 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OBJECT num, X, Y,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ganização dos códigos = utilização de subs (Gosub /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Áreas de código controlando ações específicas (separ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o / Loop – menor, mais organi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OSUB = funciona como parte do código, compartilha variáveis gerais (GO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URN = retorna ao ponto normal do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s atuais, LOOP contendo todo códi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 utilizando GOSUB, organiz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OSUB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vimento_jog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OSUB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ntrole_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vimento_jog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el_nome: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is pontos indicam label, ponto para “pulo” no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inal do SUB sempre acompanhad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– volta ao ponto de onde “pul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com fluxo único: vai ao sub, e só retorna ao normal quando acaba o código do su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LAÇO (Loop) dentro do SUB captura o programa até sua condição de 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timização de cód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funções para códigos muito usados, evitando a repetição da escrita = otim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ões para cálculos específicos / complexos, repetições, ou mesmo ações específicas: exemplo menus, fim de jog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ENÇÃO: funções não compartilham diretamente as váriaveis normais do jogo (exceto Globais) – utilizam variávei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básica / decla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ostra_tex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 40, “Texto norm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bloco de comandos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D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código do jogo, cham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stra_texto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ções podem receber e retornar parâmetros / val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oma(valor1, valo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ultado = valor1 + valo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tal =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 200, 200, “TOTAL (usando funcao):  “ + STR$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soma(valor1, valor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declaração da função, nome das variáveis (parâmetros), como serão utilizadas intern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tal =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chamada da função passo outras variáveis qualquer (com seu nome próprio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3:18:33Z</dcterms:created>
  <dc:creator>A.B.</dc:creator>
  <dc:description/>
  <dc:language>en-US</dc:language>
  <cp:lastModifiedBy>A.B.</cp:lastModifiedBy>
  <dcterms:modified xsi:type="dcterms:W3CDTF">2008-09-23T12:17:39Z</dcterms:modified>
  <cp:revision>14</cp:revision>
  <dc:subject/>
  <dc:title>Dark Basic Pro: Subs, Funções, comandos e ScreenSavers</dc:title>
</cp:coreProperties>
</file>