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B0D0-0408-493E-9D2E-4094B8F29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B354-CC40-4C2E-B25E-6588BCDFB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1FBE-BA42-47F2-B647-0C1437385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10B0-FE86-48D1-8D8D-D40A530A4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0F40-DBCC-4540-A332-D6793495D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F89B-C84D-41D5-B6CC-6DAB11EE4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6C6F-F7A6-476D-B6AA-EB9CE3B91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EF1A-66F1-4A7B-8047-027E4DDAA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E889-9B0A-466F-90E1-FEA41706D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C1FB-86A4-41D0-83DE-FB3106B3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DAFA-D049-4943-82F1-936F6C40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86BE-95D8-455B-83D7-E4B251913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25741-78C6-47AD-8B25-ED9E21A37B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Dark Basic Pro:</a:t>
            </a:r>
            <a:br>
              <a:rPr sz="4400"/>
            </a:b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Dicas: Disparos, Tiros e Ba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gusto Bü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isparos / Ba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DIM bala(3) as ent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controle_bal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indice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WHILE indice &lt;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indice = indice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REM ** 1. INICILIAZA B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IF bala(indice).estado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OSITION OBJECT bala(indice).objeto_num, playerx#, playery#, playerz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YROTATE OBJECT bala(indice).objeto_num, player_ang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bala(indice).estado =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END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isparos / Ba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116000" y="1197000"/>
            <a:ext cx="70563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isparos / Ba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logia ao Mundo re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la: objeto movendo em alta velocidade, de um ponto inicial, com uma direção (mir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ndo 3D / Jog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la: objetos movendo em alta velocidade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 uma forma ger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ma bala = um ob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isparos / Ba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riando disparos / bal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Balas pré-definidas (objet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isparo: posição inicial = p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isparo: direção inicial = p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omado possível ângulo extra da arma (mi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Velocidade bala = próp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ontrole da bala = próprio, percebe sua colisão e faz seu trata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isparos / Ba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paro / Bala: estados básicos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4360" y="2781360"/>
            <a:ext cx="136836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icializ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92360" y="2781360"/>
            <a:ext cx="136872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227640" y="2781360"/>
            <a:ext cx="136872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a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3429000"/>
            <a:ext cx="936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34290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isparos / Ba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odificação Bási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KE OBJECT SPHERE 50, 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IF CONTROLKEY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atira =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END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GOSUB controla_ba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controla_bal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REM ** 1. INICILIAZA BA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IF atira =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POSITION OBJECT 50, playerx#, playery#, playerz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YROTATE OBJECT 50, player_ang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atira =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END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isparos / Ba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IF atira =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MOVE OBJECT 50, velo_bala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colisao = OBJECT COLLISION(50, 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REM ** COLISAO MENOS COM P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IF colisao &lt;&gt; 0 AND colisao &lt;&gt;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atira 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END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END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IF atira 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text 20, 100, "BALA COLIDIU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atira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END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isparos / Ba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403280" y="1341360"/>
            <a:ext cx="6408720" cy="48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isparos / Ba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ários disparos simultâneos = várias balas (objetos) prepar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ceber e utilizar bala “livr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cilitar trabalh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ição de TYPE para entidades / ba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tor para controle de ent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e único bala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correndo vetor, processando todas ba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isparos / Ba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IF CONTROLKEY() AND timer_atira &lt;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timer_atira = 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REM ** VE BALA LIVRE E AT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IF bala(1).estado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bala(1).estado =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GOTO ja_ba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END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IF bala(2).estado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bala(2).estado =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GOTO ja_ba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END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ja_bal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END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REM ** TEMPORIZA TI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IF timer_atira &gt; 0 then timer_atira = timer_atira -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7T17:02:40Z</dcterms:created>
  <dc:creator>A.B.</dc:creator>
  <dc:description/>
  <dc:language>en-US</dc:language>
  <cp:lastModifiedBy>A.B.</cp:lastModifiedBy>
  <dcterms:modified xsi:type="dcterms:W3CDTF">2008-10-27T18:26:53Z</dcterms:modified>
  <cp:revision>5</cp:revision>
  <dc:subject/>
  <dc:title>Dark Basic Pro: Dicas: Disparos, Tiros e Balas</dc:title>
</cp:coreProperties>
</file>