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F54-8AC0-42FD-984A-5568E6AD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438-9A87-4A5E-9FB6-AAD5880B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99D-CD7B-4E56-AF6A-B2EA8D4A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13EC-0594-4874-8B68-6F5765CB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A99-4584-48C6-BCF3-D498C204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B8A8-3414-483D-94E2-D5611930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37D-FAE2-473B-A29F-CB942378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20B-3620-4AE7-A7BE-1AA0B44E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D96-F082-445D-9454-523EA708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53C-AEBC-4F6E-9F69-9C561AC8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D89-38A6-4B50-B918-2F29AF81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4F6-1115-471D-A446-482091E8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5839-4D01-4915-B5A4-FF2EAF9D1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Inteligência Artif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ôs: precisam perceber e tratar suas colisões também (automaticam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isão de autômatos e tratame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mos comple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cipar mov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ber melhores saí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A Parte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ular comportamento inteligente em elementos autômatos no j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o passo: planejar o comportamento desej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o passo: identificar estados – separar ações diferentes (partes do comportam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o passo: identificar mudança de estados – o que faz o robô mudar de um estado a ou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ar regras – testar - adapt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es do comport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erentes 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tados com códigos (partes) separ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ar estados por variá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ar regras para mudança de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os com IA = autômatos fin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jar comportamento como máquina de es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enho de fluxograma de estados / comporta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r estados e re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557360"/>
            <a:ext cx="8353440" cy="453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2781360"/>
            <a:ext cx="100836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l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3573360"/>
            <a:ext cx="100800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ê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2708280"/>
            <a:ext cx="100800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4941720"/>
            <a:ext cx="100800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2781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350028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3203640" y="3715920"/>
            <a:ext cx="288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419280" y="443700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564000" y="450828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643280" y="3429000"/>
            <a:ext cx="505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716000" y="357336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4365720"/>
            <a:ext cx="79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4653000"/>
            <a:ext cx="115236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4724280"/>
            <a:ext cx="100800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1916280"/>
            <a:ext cx="115236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1989000"/>
            <a:ext cx="100836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icial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8880" y="184464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ão Geral 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1700280"/>
            <a:ext cx="7848360" cy="424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1773360"/>
            <a:ext cx="100800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1916280"/>
            <a:ext cx="100836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32000" y="3213000"/>
            <a:ext cx="100836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aqu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4005360"/>
            <a:ext cx="100800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2276640"/>
            <a:ext cx="100836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aqu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7640" y="2781360"/>
            <a:ext cx="100836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ai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59280" y="4292640"/>
            <a:ext cx="100800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2924280"/>
            <a:ext cx="72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242100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4360" y="292428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866920" y="3716280"/>
            <a:ext cx="505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13164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4724280"/>
            <a:ext cx="1584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191628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5084640"/>
            <a:ext cx="10810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60320" y="184464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dindo Bolh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lh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484280"/>
            <a:ext cx="7993080" cy="44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2421000"/>
            <a:ext cx="100800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l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0920" y="3213000"/>
            <a:ext cx="100836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ê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3992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1690200" y="335556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3800" y="270828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ia &lt;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8520" y="357336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1844640"/>
            <a:ext cx="100800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3716280"/>
            <a:ext cx="100800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aqu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7080" y="3716280"/>
            <a:ext cx="100800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aqu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435280" y="2781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9640" y="2781360"/>
            <a:ext cx="360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5600" y="263700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and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3240" y="285264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and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628640"/>
            <a:ext cx="49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lhando: Regras para mudança de 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mplementação das regr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EM 1. Patrulh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inimigo.estado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distancia_player &lt; 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nimigo.estado = 2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ê player e decide (próxi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EM 2. Ve player / Dec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inimigo.estado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inimigo.saude &lt;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nimigo.estado = 3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F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LSE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nimigo.estado = 4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TA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ejar comportamento desej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r estados diferentes (partes do comportam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r regras para mudança de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ar regras / testar / adap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2:35:55Z</dcterms:created>
  <dc:creator>A.B.</dc:creator>
  <dc:description/>
  <dc:language>en-US</dc:language>
  <cp:lastModifiedBy>A.B.</cp:lastModifiedBy>
  <dcterms:modified xsi:type="dcterms:W3CDTF">2008-10-27T18:29:19Z</dcterms:modified>
  <cp:revision>8</cp:revision>
  <dc:subject/>
  <dc:title>Dark Basic Pro: Inteligência Artificial</dc:title>
</cp:coreProperties>
</file>