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323-331F-4DC9-997F-55FB4B20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543-B927-4944-B092-F9022D7A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692-94B5-4AD3-861C-B93CA01E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8F2-9054-4060-92C6-744B919F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650-35A9-47E1-AAD0-07C53947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4A3-7CE0-4D64-8528-CBAC5FCE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6D6-22C5-454A-8155-F06A90AB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346-C1F1-4DF1-84ED-02A14CB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6C6-0271-47B4-961F-D95E6D0D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FAE-2929-413C-947D-C1A0D42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433-779E-4455-84B9-18549133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436-1A4A-4E14-9B42-4770D3D4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4CF5-C74F-4A1B-A4AF-5F3E1260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IA – Par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60360" y="119700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ratamento de coli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ao player (com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âmetr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rô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tament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ber coli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lizar: utilizando variáveis da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: deslizamento só possível com caixas de colisão bem definidas (para cena com primi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clarando caixas de colisão (na criação da cen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OBJECT BOX 21, 100, 200,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ITION OBJECT 21, 300, 0,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OBJECT COLLISION BOX 21, -50, -100, -10, 50, 100, 1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2040120" cy="2338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68560" y="4745160"/>
            <a:ext cx="55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IXA COLISÃO: distância  em relação ao 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objeto (mínima e máxi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olhendo os valores para deslizamento no momento da coli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isao = OBJECT COLLISION(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colisao &lt;&gt;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x# = GET OBJECT COLLISION X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y# = GET OBJECT COLLISION 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z# = GET OBJECT COLLISION Z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bbe0e3"/>
                </a:solidFill>
                <a:latin typeface="Arial"/>
              </a:rPr>
              <a:t>REM SUBTRAIR O RESULTADO DA POSICA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TION OBJECT 1, x - cx#, altura#, z -cz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isão: tratamento avanç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ando um estado auxiliar de des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ô andando = tem um destino defi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isão = entra em estado de desv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quece temporariamente seu des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a para lado, e anda, tentando sair da colisão a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 um timer para des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 a seu estado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08000" y="1195560"/>
            <a:ext cx="51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horando colisões: prev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ndo v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o auxiliar, a frente do rob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são do des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cipar colisão = antecipar desvio (trata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hora no comportam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s inteligente = 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icionando objeto auxiliar com posição relativa do rob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x# = robo1.x + 100 * SIN(robo1.an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z# = robo1.z + 100 * COS(robo1.an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y# = robo1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TION OBJECT 3, nx#, ny#, nz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22960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o : planejar o compo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que queremos do inim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o : identificar os 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uzir o comportamento em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o : identificar mudança de 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que faz passar de um estado a ou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o : programar o esquema de 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ar , adap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419640" y="1197000"/>
            <a:ext cx="4968720" cy="496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9120" y="1504800"/>
            <a:ext cx="27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MPLO: game n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zer esboço do que esperamos do inimigo, da 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341360"/>
            <a:ext cx="83516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56536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357336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400536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450864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21300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371628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414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9640" y="4653000"/>
            <a:ext cx="288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1080" y="162864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/ TRADUZIR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4941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24000" y="5229360"/>
            <a:ext cx="129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341360"/>
            <a:ext cx="83516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256536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357336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400536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450864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21300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371628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414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465300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2880" y="1628640"/>
            <a:ext cx="45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MUDANCAS DE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66520" y="249228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ia &lt;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4000" y="2924280"/>
            <a:ext cx="360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5440" y="3068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&lt;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435640" y="3429000"/>
            <a:ext cx="28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3280" y="373680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&gt; 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4941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651280" y="5300640"/>
            <a:ext cx="1368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6160" y="551664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Z  &lt; player -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9080" y="422100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yer.z +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yer.x +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618920" y="3645000"/>
            <a:ext cx="73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8720" y="2276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2160" y="270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6520" y="321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2160" y="35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26520" y="414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344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ercebendo o que se quer, identificando os estados e o que leva a mudança iniciamos a programação da 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0. INICI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robo1.estado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bo1.x = playerx# +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bo1.y =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bo1.z = playerz# + 1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TION OBJECT robo1.objeto_num, robo1.x,   robo1.y, robo1.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bo1.estado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A: robô deve cuidar de todos seus aspectos, tiro, animação, colisão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s semelhantes ao player, mas percebendo a diferença: tem que ser auto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. Tiros: mesmo esquema, apenas baseando a bala (ponto de saída e direção) no rob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413000"/>
            <a:ext cx="835200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292428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3500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3933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4076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299736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3573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149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2160" y="16286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NDO O ESQU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5084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77080" y="5013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2133720"/>
            <a:ext cx="100800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788000" y="306828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51280" y="3284640"/>
            <a:ext cx="215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4797360"/>
            <a:ext cx="1008360" cy="936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340000" y="3933720"/>
            <a:ext cx="216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00360" y="4437000"/>
            <a:ext cx="1295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43280" y="4653000"/>
            <a:ext cx="24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0360" y="4941720"/>
            <a:ext cx="43927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5516640"/>
            <a:ext cx="302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tamento de anim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milar ao player, apenas baseado em parâmetros do robô, e rodando no objeto rob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mplo: animação caminha se velo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robo1.velox &gt; 0 then robo1.anima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robo1.velox &lt;= 0 then robo1.anim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 0. PA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robo1.anim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OOP OBJECT robo1.objeto_num, 0,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 OBJECT SPEED robo1.objeto_num,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IF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31:09Z</dcterms:created>
  <dc:creator>A.B.</dc:creator>
  <dc:description/>
  <dc:language>en-US</dc:language>
  <cp:lastModifiedBy>A.B.</cp:lastModifiedBy>
  <dcterms:modified xsi:type="dcterms:W3CDTF">2008-10-29T17:52:05Z</dcterms:modified>
  <cp:revision>10</cp:revision>
  <dc:subject/>
  <dc:title>Dark Basic Pro: IA – Parte 2</dc:title>
</cp:coreProperties>
</file>