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FBB-E645-4833-81DA-E626EA30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9D4-7C08-4866-BC93-EB79AB6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39C-DE18-49F0-8DAC-E7D609E6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DB6-17A9-4A4C-8CEB-99ACAA2B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505-7112-463D-868B-EE9DEAE0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4B4-41B8-4C76-9A21-3FDD1CB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EAF-CCFC-4496-82C0-D9C952F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075-EBF2-4FDF-82E3-1D7088C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D6D-295D-4E45-8478-E5B761A7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BCE-02B4-4B14-8A95-A1594AE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A9B-21A6-4C42-AB3C-E9FEF06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932-6B94-4076-9723-1D26625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433-15BD-4FBE-80C9-526EFFFB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os Compostos: 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básico: rotacionando o LIMB de forma indepen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1y# = l1y# + MOUSEMOVEX() 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l1y# &gt; 70 then l1y# 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l1y# &lt; -70 then l1y# = 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TATE LIMB 1, 1, l1x#, l1y#, l1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 20, 40, "Limb ang y: " + STR$(l1y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ários limbs: adicionando objetos – membros – como ro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OAD MESH "roda01.X"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DD LIMB 1, 2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DD LIMB 1, 3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RODAS 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DD LIMB 1, 4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DD LIMB 1, 5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M ** POSICIONA ROD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FFSET LIMB 1, 2, -20, -10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LOR LIMB 1, 2, RGB(10,10,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CALE LIMB 1, 2, 50, 50,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movimento independente para ro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RODAS GIRAM = VELO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velo# &lt;&gt; 0 then rodax# = rodax# + velo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SIMULA VIRAR RO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virando &lt; 0 THEN roday# = roday#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virando &gt; 0 THEN roday# = roday#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E LIMB 1, 2, rodax#, roday#, rodaZ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odas ro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97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e LIMBS = múltiplos u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dade de comando /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or controle: pode ser necessário uso de objetos normais, simulando LIMB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ível simular objetos complexos / compostos sem uso de LIM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ando posição e rotação para outr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ndo posição relativas (vide códigos pass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PUT: Correção / Melh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PU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UPKEY() OR INKEY$() = “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duz erros, duas teclas pressionadas ao mesmo tempo – não reconh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lor = SCANCOD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torna o código da tecla pressi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lor = KEYSTATE(scan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verificar o estado de determinada tecla (pelo scancode dela):  1 =  pressi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PUT: Correção / Melh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simples descobrir tec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cla = SCAN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XT 20, 80, "Tecla (SCANCODE): " + STR$(tec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las úteis (scanco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= 30, W = 17, S = 31, D =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INPUT melho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 UPKEY() OR KEYSTATE(1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ta para cima ou tecla W (code 17) pressi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ermite percepção múltiplas teclas sem inter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B = mem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ção de objetos comp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os conectados, se movem juntos, mas podem possuir rotações, posicionamento disti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to: cabeça, olhos como LIMBS, olhos podem rotar – apontar para direção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o: rodas como LIMB, podem rotar, girar diferente do carro, mas ainda 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ção de esqueletos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itos outros exemplos: armas, partes de veículos, etc... limite = imag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cilidades para objetos comp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emos o objeto mestre, seus membros (LIMBs) são movidos junto sem comandos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companham movimento, rotação e escala do objeto 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bs = objetos diferenciados, sem todas propriedades de objetos nor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bs = criados a partir de MESHS não de objetos nor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ESH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= apenas a malha 3D, sem todas propriedades de um obje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AD OBJECT “file.X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AD MESH “file.X”, mesh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transformar um objeto em mesh, para seu uso como Li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MESH FROM OBJECT mesh num, obj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ndo um 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DD LIMB obj num, limb num, mesh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cionando o LIMB: coordenadas sempre em relação ao objeto 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FFSET LIMB obj, limb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os coman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CALE LIMB obj, limb, sx, sy, 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TATE LIMB obj, limb, ax, ay, 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LOR LIMB obj, limb,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URE LIMB obj, limb, image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170240" cy="417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844640"/>
            <a:ext cx="38163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cionando o LIMB: coordenadas sempre em relação ao objeto 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nto 0,0,0 = centro do objeto 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: criando um LIMB simples, uma Box conectada a ou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OBJECT BOX 1, 20, 20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OBJECT BOX 2, 10, 5,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MESH FROM OBJECT 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LIMB 1, 1,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ETE OBJEC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SET LIMB 1, 1, 0, 25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10:55Z</dcterms:created>
  <dc:creator>A.B.</dc:creator>
  <dc:description/>
  <dc:language>en-US</dc:language>
  <cp:lastModifiedBy>A.B.</cp:lastModifiedBy>
  <dcterms:modified xsi:type="dcterms:W3CDTF">2008-10-20T17:33:22Z</dcterms:modified>
  <cp:revision>14</cp:revision>
  <dc:subject/>
  <dc:title>Dark Basic Pro: Objetos Compostos: Limbs</dc:title>
</cp:coreProperties>
</file>