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9EB-8333-462C-A2D9-BD0EDA5D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518-F311-4AFC-9BD2-F7362DE0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1E2-99F0-4C34-9586-F4C811A2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D81-7DAE-4B7F-B89F-8FACBC89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A5C-12EC-40FF-A7D9-95A46677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C52-8E6E-4B0B-87C1-892B3ED5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6F4-2D13-494D-9D68-B7CE8203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0C3-EB65-4A3C-8316-23B001E5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38E-C330-4E9D-AB27-C7C8FEFC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DC0-5C04-4872-92E9-6A5D6524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00C-281A-4087-97F8-B3DEA219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661-118F-4180-8400-0EA3C1BB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F45B-5555-499D-B6B8-92B165635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z dire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enadas indicam direção (0,0,0) = centro da 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possuem posição (infini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67280" y="1413000"/>
            <a:ext cx="3457440" cy="3457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300640"/>
            <a:ext cx="6572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DIRECTIONAL LIGHT NUM, X, Y,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 / F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g: neb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de na cena, com cor, e distância (da câmera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G DISTANCE distâ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G COLOR 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ância = máximo onde o FOG fecha a cena, cobre os objetos. Antes, fade tipo neb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 / F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básico: neblina, escuridão,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716360" y="2349360"/>
            <a:ext cx="4140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priedades dos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ofrer influência (ou nã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LIGHT num,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FOG num,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AMBIENT num,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lag 1 = ativo, 0 = desativo (não rece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priedades dos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flexão da luz: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P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SPECULAR num, 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r de reflexão (combinado com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OBJECT SPECULAR POWER num,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0 = reflexao máxima da l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: SP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716360" y="191628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8000" y="522936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ULAR POWER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lete luz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91280" y="5229360"/>
            <a:ext cx="29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lexo de luz contro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uxando para 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riedades dos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OBJECT AMBIENCE num, c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ação do objeto (adicional) relacionada a luz ambiente, e reflex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OBJECT DIFFUSE num, c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ação do objeto (adicional) relacionada a luzes dinâmicas, e reflex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5034240" cy="377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54600" y="5373720"/>
            <a:ext cx="67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o com DIFFUSE e AMBIENCE azul (metaliz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nentes de cor podem alterar o objeto comple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riedades dos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OBJECT EMISSIVE num, c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ação do objeto (adicional), EMISSIVE cor que o objeto emite, indiferente de ilumin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 DOS OBJETOS (vários compon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TEXTURA (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Iluminação da cena (AMBIENT + LIGHT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Luzes dinâ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OLOR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DIF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AMB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EMI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os e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uz ambiente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uz default de cena (LIGHT NUM 0)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uz(es) dinâmica(s) (luzes extras)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uz própria do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prieda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flexão: como reage com a l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luminação próp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z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uminação geral da cena, luminosidade mínima de t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AMBIENT LIGHT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OR AMBIENT LIGHT 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ambiente: 0..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ipos de L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: Point (de um ponto até outro ponto X,Y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2: Spot (tipo lanterna – quase point l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3: Direcional (sol, do infini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KE LIGHT num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0 = default, 1..7 = luzes do jogo, personalizáve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uz normal de cena (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IGHT NUM 0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int Light  =  padrão da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uz com direção: cria uma iluminação 3D, lados mais ou menos expostos a l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HIDE LIGHT 0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desli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HOW LIGHT 0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li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HIDE / SHOW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válido para todas luz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álido para todas fontes de l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 da lu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OR LIGHT num, 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OR LIGHT 1, RGB(0, 0, 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ance da Luz (distancia 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LIGHT RANGE num, di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LIGHT RANGE 1,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in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 um posição X,Y,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pontando para uma posição X,Y,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sui posição e destino (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KE LIGHT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SITION LIGHT num, posx, posy, po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INT LIGHT num, destx, desty, des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96000" y="1557360"/>
            <a:ext cx="25398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po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pécie de luz direcional, com abertura angular ( spo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ui pos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ui ângulo (dire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24360" y="1628640"/>
            <a:ext cx="295308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3120" y="4292640"/>
            <a:ext cx="588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KE LIGHT 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POT LIGHT num, ângulo 1, âng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OSITION LIGHT num, X, Y,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OTATE LIGHT num, angX, angY, ang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uzes dire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ontam para uma dir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tem ponto de origem, cobrem todo 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aginar ponto 0,0,0 como origem, setar direção com coordenadas de mapa X,Y,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ordenadas X, Z = dir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ordenada Y = a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3:13:29Z</dcterms:created>
  <dc:creator>A.B.</dc:creator>
  <dc:description/>
  <dc:language>en-US</dc:language>
  <cp:lastModifiedBy>A.B.</cp:lastModifiedBy>
  <dcterms:modified xsi:type="dcterms:W3CDTF">2008-09-18T12:13:20Z</dcterms:modified>
  <cp:revision>9</cp:revision>
  <dc:subject/>
  <dc:title>Dark Basic Pro: Iluminação</dc:title>
</cp:coreProperties>
</file>