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7B8-E0AE-4592-987A-D23312EB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2EF-0EE6-48B7-B8CB-DA7F8C0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F34-8D04-4315-AA46-F1974EB8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E37-4E15-41BB-BE0F-3CCF783F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88F-0689-42E0-B571-31235B47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734-6D3E-425F-96E4-EE7FF584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425-21F9-4BC1-A78F-AC82C063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42B-1903-44EA-B24F-85003F4F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4DA-6AD4-4DFF-A45B-A6580BDB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D69-209D-4227-BA7A-CFB78F9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7CA-63E9-42E7-BCA9-94F590E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678-E9D5-4AB3-BB8F-43283084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AC1-F318-4FBA-9CF7-6F2C279B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s Básico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RIX = Matr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agem única com várias tex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ross = 2 (duas texturas em larg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wn = 2  (duas texturas em al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4 Texturas em ú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vo de im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32148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53920" y="35002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5560" y="52293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   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54120" y="1378080"/>
            <a:ext cx="6330960" cy="4748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66520" y="155736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trix com alturas random e tex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aptando objetos à altura do chão (usando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ura = GET GROUND HEIGHT(Num, X,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necer Posição X e Z, e  a altura Y, é retornada, de acordo com a matr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um = Número da matrix, X e Z do objeto que desejamos posicionar na altura c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d. Básico para posicionar o player na altura certa do chão = usando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LE POSIÇÂO ATUAL DO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x# = object position x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y# = object position y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z# = object position z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* DESCOBRE ALTURA DA MATRIX NO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hao# = GET GROUND HEIGHT(1, px#, pz#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y# = chao#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* REPOSICIONA PLAYER COM ALTURA CERTA - CH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1, px#, py#, pz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2592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ganização da Matrix, numeração dos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umeração de 0 até máximo de segmentos em X e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47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ssibilidad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setar textura de tiles (segmentos)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ecessita usar textura com mais tiles (mais texturas mesmo arqu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MATRIX TILE num, tilex, tilez, tex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sibilidade: setar altura específica para segmentos da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cisa mover quatro vértices para baixar um segmento completo (vizinhos - mal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MATRIX HEIGHT num, tilex, tilez, a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r FOR para modificar vários segmentos da MATRIX de forma otim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iação de 0 até máximo segmentos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 tilez = 0 TO tiles_max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MATRIX TILE 1, tilex, tilez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EXT tilez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: Uma Matrix prepara como pista simples, segmentos centrais mesma altura, com textura diferente, resto alturas aleató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5256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s Bás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enários complexos – criação com  programas exter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D World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rtography 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D Max, Maya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enários básicos – podem ser feitos com primitivas e recursos próprios do 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ão e paredes bás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ção d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KE OBJECT BOX num, dx, dy, d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cionamento de paredes e objetos: planejamento prévio – usar rascunhos para planej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ITION OBJECT num,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RIX – matriz de vértices, para uso genérico como chão, cenári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número da matrix (único), dimensões (tamanho) em X e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úmero de segmentos X, Z, complexidade da malha = número de vér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MATRIX num, dimx, dimz, segx, seg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rix simples para ch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5616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andomização da matrix, cria relevo disforme, útil para cenários gené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ANDOMIZE MATRIX  num, altura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 alturas aleatórias, até altura max para cada vértice da ma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rix precisa de UPDATE após transform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PDATE MATRIX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10880" y="148428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trix com alturas random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urização de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E MATRIX TEX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, Image Num, Across,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âmetros Across e Down, permitem usar uma imagem com múltiplas tex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agem com textura única: Across = 1, Down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enários Básicos: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L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= textura que permite repetição, seus lados combinam, sem perceber a emenda entre os bit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67280" y="342900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mplo de imagem  textura TILE, seus lados combinam, bordas pouco perceptíveis = permite repet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40:55Z</dcterms:created>
  <dc:creator>A.B.</dc:creator>
  <dc:description/>
  <dc:language>en-US</dc:language>
  <cp:lastModifiedBy>A.B.</cp:lastModifiedBy>
  <dcterms:modified xsi:type="dcterms:W3CDTF">2008-09-10T14:17:50Z</dcterms:modified>
  <cp:revision>16</cp:revision>
  <dc:subject/>
  <dc:title>Slide 1</dc:title>
</cp:coreProperties>
</file>