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CCF-1F6A-48B4-B641-CFB48A48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020-BC21-497F-9854-49983173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B5E-0F91-4D57-A1FC-E158A06F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43B-650A-4404-ADBA-7DACAD1F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2F3-D254-441F-8EFA-9AEC71BF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95A-087B-4B50-8EEB-F3FC381C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3C5-F549-4FDD-90FC-05498923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468-B585-4623-A1FC-9F8E36B0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A57-F76B-40E7-B63A-ED9230AC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41A-86F9-438A-AD52-D01D706C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280-36D3-4A8D-A703-33D53B7E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17C-2364-4B3D-9691-8DC45D39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7EE3-493C-4C4D-A304-46358349C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ragmosoft.co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odelos 2 - Anim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: “Mummy.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ções (descobertas com Fragmo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0..150 – 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51..200 – A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00..250 – Ating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50..300 – Des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00..400 – Q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400..450 – Lev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450..550 – Cami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550..650 - Cor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dar animação única (básic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P OBJECT 1, 0, 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OBJECT SPEED 1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árias animações = necessário controle por var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as para ativar uma animação específica = cont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emplo – animação parado + cami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gra simples: velocidade = cami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cao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velo# &gt; 0 then animacao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nimacao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P OBJECT 1, 0, 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OBJECT SPEED 1,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nimacao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P OBJECT 1, 450, 5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OBJECT SPEED 1,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9440" y="508464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Velocidades diferentes por ani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62880" y="234936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Regras para ativar ani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trole de animações avanç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umas animações tem que rodar até o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ceber o quadro atual / determinar o quadro  final da anim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ó trocar a animação quando a animação estiver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r variáveis de controle: quadro_atual, quadro_final, proxima_ani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emplo: animação desvia – rodar até 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nimacao &lt;&gt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imacao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velo# &gt; 0 then animacao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adro_atual = OBJECT FRAME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F quadro_atual &gt;= quadro_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nimacao = proxima_anim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F animacao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OOP OBJECT 1, 250,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 OBJECT SPEED 1,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quadro_final = 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xima_animacao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3440" y="213372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ra de animação por velocida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ceção animaçã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3357720"/>
            <a:ext cx="42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cebo quadro atual /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do animação no final da ani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16000" y="5013360"/>
            <a:ext cx="37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imação: defino quadro fina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óxima animação para ro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6467400" cy="4851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35280" y="1413000"/>
            <a:ext cx="49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ultado: modelo com animações básicas, andar, parada, e desvi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respeitando animação desvio – até o fi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ções requerem variáveis d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 animação não executa alguma função (andar por exemp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eio de uma animação executa alguma função (atirar por exempl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ância de sincronizar animações com ações do jogo – visual / funcion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 bom controle de animações demanda um bom código – percebendo exceções e planejando regras para ativar anim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ódigo básico de animações pode ser baseado nos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ber as regras de cada jogo específico, e programá-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ger animações especiais que precisam ser rodadas até o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/ perceber o quadro atual e final das anim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balhoso mas possível = necess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ção de modelos para objetos complexos (.X, .3DS, .M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delos conté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formação da malha (mesh) = 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ura e mape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dros = anim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e de animações = número de quadros (para cada mov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.10 = Movimento pa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.20 = Camin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..40 = Cor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ção de quadros na criação do modelo / das animaçõ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úmero total de quadros (animação) de um mode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quadros = TOTAL OBJECT FRAMES(n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tar quadro para objeto (diretam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FRAME num,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r uma anim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LAY OBJECT num, start, end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OOP OBJECT num, start, end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locidade da anim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T OBJECT SPEED num, vel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r animação corretamente: necessário saber os quadros usados para o mov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organização d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isualizar modelo / quadros – utilizar programas aux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ditores de modelos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ragmotion, Milkshape, MED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ragmotion (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agmosoft.com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mite utilização sem registro (restriçõ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orta / Exporta modelos X, 3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isualiza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mite transformações básicas (orientação, escala, posição, rot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mite explorar quadros da ani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47:05Z</dcterms:created>
  <dc:creator>A.B.</dc:creator>
  <dc:description/>
  <dc:language>en-US</dc:language>
  <cp:lastModifiedBy>A.B.</cp:lastModifiedBy>
  <dcterms:modified xsi:type="dcterms:W3CDTF">2008-10-06T15:05:50Z</dcterms:modified>
  <cp:revision>8</cp:revision>
  <dc:subject/>
  <dc:title>Dark Basic Pro: Modelos 2 - Animações</dc:title>
</cp:coreProperties>
</file>