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CC81-231C-4CB3-8A97-322E7EC0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2F1-5361-4A5D-A6E0-33BAF1EB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FAC-C9A7-444E-80B9-DE1AA4A8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5A00-6CC0-4EF3-95B3-2AB16AD4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869-1C69-4C5F-906C-A25A4F86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E5D-C29E-4F50-8D9E-0B8AE20B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522A-8B5C-4517-8EE9-7B2A97B1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534-3250-4D64-9DC2-91B5495A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974-B977-41D4-8E92-426D0211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FE8-ECDF-4AFB-9896-7E4BC3C0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0B0-6586-4AD1-9054-FFB10E8D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929-ADC3-4FFF-BB3E-A6F58DEF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B0AB-3BD5-4B3D-B198-AA55AECDA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istema de 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ibrar partículas = CHA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PARTICLE CHAOS num,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LAG de chão para partículas, parar no chão ou não (altura Y=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PARTICLE FLOOR num,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r das partíc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LOR PARTICLES num, r, g,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tar partíc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OTATE PARTICLES num, angx, angy, ang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ta todas partículas junto(usando o eixo central como o meio de todas partícu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ar desligar partíc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DE PARTICLES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W PARTICLES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os / Objetos diferenciados, com menos proprieda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ção básica = efe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 faíscas em uma coli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 objetos para isso: onera o processamento, trabalh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 partículas (elementos diferenciados), menor processamento, fac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or controle, menos proprie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o de vida = usado para efeitos por tempo deter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em (criadas) de um emi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ssor tem posição no mundo 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ículas podem mudar a rot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ículas tem velocidade, grav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ículas baseadas em uma im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em ter coloração 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ar partícu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PARTICLES num, num imagem, freqüência, ra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üência = número de partí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o = tamanho das partí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075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AD IMAGE "fire01.BMP",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PARTICLES 1, 2, 50,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752720" cy="3563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9640" y="321300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ículas criadas inicialmente com emissor no ponto 0,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cionamento de dois tip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ITION PARTICLES num , x, y,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284720" y="2708280"/>
            <a:ext cx="4535280" cy="3409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1280" y="3284640"/>
            <a:ext cx="367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ve todas partículas junto com o emi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x: acompanhando o player, levando as partículas já emit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cionando apenas o emiss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ITION PARTICLE EMISSIONS 1,X,Y,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679640" cy="350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9120" y="3305160"/>
            <a:ext cx="34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o emissor (novas partículas), mantendo as partículas já emit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ito de ra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priedades das partíc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ravida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T PARTICLE GRAVITY Num,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ault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 negativo = partículas sob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mpo de vida (default 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PARTICLES LIFE num, tempo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elocidade inicial das partí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fluenciada depois pela grav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PARTICLE VELOCITY num, v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PEED = velocidade de cálculo das partículas (default 0.005 = len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PARTICLE SPEED num,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6:50:12Z</dcterms:created>
  <dc:creator>A.B.</dc:creator>
  <dc:description/>
  <dc:language>en-US</dc:language>
  <cp:lastModifiedBy>A.B.</cp:lastModifiedBy>
  <dcterms:modified xsi:type="dcterms:W3CDTF">2008-10-08T18:28:32Z</dcterms:modified>
  <cp:revision>8</cp:revision>
  <dc:subject/>
  <dc:title>Dark Basic Pro: Sistema de Partículas</dc:title>
</cp:coreProperties>
</file>