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B6E-D450-421F-958A-5DC4BC37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BAC-1D67-4900-8911-89FC9C8F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4F0-CE59-4D10-B040-4F3541CF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A0B-CD90-4F1C-B23B-0DFBC700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2AC-2C95-4CC8-8E32-1A5CBB54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050-A0BA-437A-A796-CD51DFC8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4F1-3134-4986-AE2A-593A1AD0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7FB-72E0-4969-A1C5-42B4D33B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B64-58B6-47FC-BCBD-8689A0B9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59D-F7A9-4D44-9EF8-6534985F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9DD-ED01-423D-A6B7-13B45D6A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2DD-AA4E-41EB-A77F-44B82DD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63AC-F946-4BA8-B742-866516C37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: Cé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Cub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ção de um cubo como limites (céu e horizontes do jo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ntagem: exibição de imagens próprias para cada lado – frente, trás, leste, o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kySphere = mais gen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kyCube = horizonte mais detalhado,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truindo planos manualmente (horizont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** CRIA LADO 1 -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ke Object Plain 21, tamanho#, tamanho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TION OBJECT 21, 0, 0,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ure Object 21,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** CRIA LADO 2 - DIR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ke Object Plain 22, tamanho#, tamanho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TION OBJECT 22, 1000, 0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YRotate Object 22, -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ure Object 22,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CRIAR TODOS OS L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KYBO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déia básica: criar um box em torno do player, mostrando horizontes, com imagen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1765440"/>
            <a:ext cx="40384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uras para skybox: altamente preparadas, combinado os lados para fechar o ambiente corret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76720" y="3573360"/>
            <a:ext cx="2187360" cy="218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848200" y="3665520"/>
            <a:ext cx="290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uras para cada lado, cima e baixo, prepa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O = seis 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15480" y="1504800"/>
            <a:ext cx="45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os simulando / criando um SKY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box: simulando horizonte distante, mover os planos – o box – de acordo com movimento do jog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ver todas paredes do sky junto com o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OBJECT 21, playerx#, 0, playerz# +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OBJECT 22, playerx# + 1000, 0, playerz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OBJECT 23, playerx#, 0, playerz# -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OBJECT 24, playerx# - 1000, 0, playerz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neira otimiza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r um modelo X para Skybox, já preparado, texturizado de aco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vita criação de cada parede em sepa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mular distancia: move o modelo do Sky junto ao player – da mesma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 OBJECT "skybox.X",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LE OBJECT 2, 3000, 3000, 3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34920" y="1484280"/>
            <a:ext cx="44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to .X como SKYBOX = mais pr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box = Céu do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lemento de cen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strado no horizonte, preenchendo áreas sem objetos de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ntém escala – distância, simulando um horizonte sempre distante (análogo ao mundo re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 simples de fundo (backgroun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aplicações 2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S RGB(0,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aplicações 3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DROP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BACKDROP RGB(0,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39960" y="1576440"/>
            <a:ext cx="55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DROP COLOR – cor simples para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 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fera – cúpula - que envolve todo o mundo 3D, com textura de c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amanho maior que o mundo criado (envolvendo ele por intei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amanho negativo – faces voltadas para d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parando uma SKYSPHERE si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KE OBJECT SPHERE 2, 2000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OAD IMAGE “ceu02.jpg”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XTURE OBJECT 2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CALE OBJECT TEXTURE 2, 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T OBJECT COLLISION OF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OSITION OBJECT 2, 1000, 0,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588000" y="3213000"/>
            <a:ext cx="23450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67960" y="155736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kysphere: Uma esfera texturizada como cé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priedades utilizáve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(válidas para todos obje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 sem ser afetado pela luz da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OBJECT LIGHT 2,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 com transformação de cor (emis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OBJECT EMISSIVE 2, RGB(200,0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ky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5600" y="494172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 influência de luz (const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61440" y="4960800"/>
            <a:ext cx="371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ormação de cor (EMIS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e sofrer transformaçã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25:02Z</dcterms:created>
  <dc:creator>A.B.</dc:creator>
  <dc:description/>
  <dc:language>en-US</dc:language>
  <cp:lastModifiedBy>A.B.</cp:lastModifiedBy>
  <dcterms:modified xsi:type="dcterms:W3CDTF">2008-09-15T15:48:56Z</dcterms:modified>
  <cp:revision>4</cp:revision>
  <dc:subject/>
  <dc:title>Dark Basic Pro: Skybox: Céu</dc:title>
</cp:coreProperties>
</file>