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845-4D30-411A-879D-CCA16BDD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F85-3236-42A1-A588-9D8A5575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9B4-29AE-4CF1-957F-39200EAB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A08-EA91-4EB5-B75F-057F02EA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5EB-6701-4285-8D0D-95AF6325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061-ACB2-4EE1-B278-65675667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091-5234-4FB0-9E26-8B878106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FD8-2381-46F4-BEB8-AC35902A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76D-F8EB-4F81-AC8D-AE093461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EC1-CF94-40C7-B7B1-339D9885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20B-A319-43D0-9BB6-DBA9C0A4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FF0-1D51-4C33-A316-FDB5BD43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B97C-C0D2-4D46-97BE-8E3982806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magens, Sprites e M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ndo sprites como botões –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cebo se mouse na área da Sp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 IMAGE "botao01.bmp",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ANIMATED SPRITE 3, "botao01.bmp", 1, 2,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ZE SPRITE 3, 200,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RITE 3, 300, 50,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x = MOUSEX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= MOUSE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mx &gt;= SPRITE X(3) and mx &lt;= SPRITE X(3)+ SPRITE WIDTH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my &gt;= SPRITE Y(3) and my &lt;= SPRITE Y(3) + SPRITE HEIGHT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ndo os Frames da SPR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SPRITE FRAME num,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dando a animação da SP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Y SPRITE num, Start F., End F., Esp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ando Sprite para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 IMAGE "mouse02.bmp"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NIMATED SPRITE 4, "mouse02.bmp", 1, 2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x = MOUSEX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y = MOUSE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TE 4, mx, my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72360" y="3789360"/>
            <a:ext cx="11588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otões também podem ser percebidos pela colisão das Spr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ortante: posição real das sprites com comando SPR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PRITE num, X, Y, im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ASTE: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exibe a imagem na posição, mas não atribui sua posição re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lisão de Spri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l = SPRITE COLLISION (num, nu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um2 = 0 – testa colisão com todas outras sprites (qualqu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torno = número da Sprite colidindo, ou zero ( nenhu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61280" y="546588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ercebe colisão e muda frame da Sprite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rdem de exibição das sprites: prior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SPRITE PRIORITY num,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alor 0 vai fazer uma sprite importante (mouse) renderizar sobre ou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rregar imagens (arquivo + número 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OAD IMAGE “logo01.jpg”,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strar imagem n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ASTE IMAGE num, pos_X, pos_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rregadas da mesma forma que tex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ste mostra imagem n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ste = pode ser usado para mover uma imagem pela tela (alterando as coordena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Imagens / 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agem simples = pouco cont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ção de imagens como sprite = maior cont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OAD IMAGE “logo01.jpg”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PRITE num, pos_x, pos_y, num im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prites permitem alteração de escala / tama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CALE SPRITE num, 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cala proporcional = 100 tamanho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TRETCH SPRITE num, escalax, esca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cala desproporcional X,Y 100 =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IZE SPRITE num, tamanhox, tamanh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amanho em pixels (redimenci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prites permitem transparência / 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SPRITE ALPHA num,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lor = 0 : invisivel transpa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lor = 255 máximo, sólido vis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prites podem ser rotacion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OTATE SPRITE num, âng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ângulos permitidos entre 0 e 3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prites podem ter área transpa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IMAGE COLORKEY red, green,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R deve ser definida no início do código, antes de carregar as ima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imagens com área transparente usar BMP – JPG deixa erros pela compac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r transparente única para o game in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03600" y="5013360"/>
            <a:ext cx="31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arência em um 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ctação mostra er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or controle : ANIMATED SP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mitem quadros / ani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ecisam dos comandos PASTE / SHOW para mostrá-las na 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REATE ANIMATED SPRITE num, “file”, ACROSS, DOWN, num i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ASTE SPRITE num, posX, p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HOW SPRITE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HIDE SPRITE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Spr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568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CROSS / DOWN controle número de quadros (divisões) na figur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agem simples ACROSS e DOWN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agens compostas, com animação ou estados (botão), definir across /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940360" y="198900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85080" y="479736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magem down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6:42:35Z</dcterms:created>
  <dc:creator>A.B.</dc:creator>
  <dc:description/>
  <dc:language>en-US</dc:language>
  <cp:lastModifiedBy>A.B.</cp:lastModifiedBy>
  <dcterms:modified xsi:type="dcterms:W3CDTF">2008-09-29T19:14:56Z</dcterms:modified>
  <cp:revision>8</cp:revision>
  <dc:subject/>
  <dc:title>Dark Basic Pro: Imagens, Sprites e Menus</dc:title>
</cp:coreProperties>
</file>