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908-141A-4120-A2BC-ADCA657C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60A-D46B-4604-98CD-44272D34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57D-318F-4ABE-B807-62791477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16A-9B87-4C5C-9A9A-C28DA9D8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A59-47EF-4F36-A485-B2CB9DCA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3D1-AD8C-4EFE-AC95-849BA5B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C1D-D917-47E3-9BDA-17CCDCC4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1B5-7186-44BB-80F1-B3F25110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250-55CC-4E0A-B7E1-CE14E4D3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50A-1B57-43FC-BBF0-B732834E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0BB-EEC7-46CD-8A8F-13C5B83F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C12-F63E-4345-9CF0-25FC383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4B09-5CD2-447A-9F76-4DA40F781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rrenos mais complexos (Advan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cessita novas versões do DBPro (upd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or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ke object terrain idTerrain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rrain heightmap idTerrain, "terra03.bmp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rrain scale idTerrain, 6, 0.5,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rrain split idTerrain, 1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rrain tiling idTerrain,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rrain light idTerrain, 1, -0.25, 0, 1, 1, 0.78, 0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rrain texture idTerrain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uild terrain id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ider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pa detalhes – sempre tons ci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escalas diferentes em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plit – detalhamento do mesh / mal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ling – numero repetições da textura detal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ght – definições de ilumi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renos compl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492360" y="208764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732720" y="292428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4360" y="52484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PA AL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1080" y="5229360"/>
            <a:ext cx="28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URA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OTAÇÃO DIFER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6160" y="522936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PA DETAL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omado a textu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tura de terrenos complexos, comando diferenciado (mesmo funcionament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ura#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 terrain ground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idterrain, playerx#, playerz#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28360" y="580536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Um terreno advanced / profiss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ação para cenários de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eno completo como cenário, chão total do jogo (terreno do jo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 complementar: terrenos específicos para morros, montanhas, junto a outros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m Mesh = Malha de vértices com diferentes al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rrenos  = HEIGHT MAP = mapa de al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rrenos básicos: construídos diretamente pelo DB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rrenos complexos: programas aux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.Ed , Terrain Editor, Earth Sculpto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rrenos construídos, representados por Bitmap simples (escala de cin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es escuras, menores al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eto = altura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es claras, maiores al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ranco = altura máx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nalidades entre branco e preto: variações de al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itmaps para terrenos = dimensões em potência de 8 pixels ( 256x256, 512x512, 1024x256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3744720" cy="374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4120" y="2637000"/>
            <a:ext cx="269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mplo de BMP para construir terreno: morro simples, partes brancas mais a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rra01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ndo um terreno si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KE TERRAIN num, “imagem.BM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urizar ter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IMAGE “textura.jpg”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EXTURE TERRAIN num, num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rreno simples, resultado “Terra01.BM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andos úteis terre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OSITION TERRAIN num, X, Y,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LETE TERRAI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certando a altura dos objetos de acordo com o terre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lt = GET TERRAIN HEIGHT(num, X, 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necemos a posição X e Z do objeto, Y (altura), retornada pela fun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KE TERRAI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rrenos muito simples, muito pouco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ível utilização como complemento de cenário (montanhas ext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m controle de textura (esca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m controle de tamanho (pelo bitmap de orig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4:31:06Z</dcterms:created>
  <dc:creator>A.B.</dc:creator>
  <dc:description/>
  <dc:language>en-US</dc:language>
  <cp:lastModifiedBy>A.B.</cp:lastModifiedBy>
  <dcterms:modified xsi:type="dcterms:W3CDTF">2008-09-10T16:19:12Z</dcterms:modified>
  <cp:revision>5</cp:revision>
  <dc:subject/>
  <dc:title>Dark Basic Pro: Terrenos</dc:title>
</cp:coreProperties>
</file>