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A66C-3B20-428A-A263-D35C7DB3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A6F1-13C4-40AE-BB48-80CB44D1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C3D2-45FF-4CF7-8027-1181CE9D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E0B4-6BC8-445F-AC66-59ACF7F0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5F98-98C3-427F-9024-6EBC1886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98FE-0634-4080-A902-EC455F29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214F-EF5B-483F-A8BD-583CE6D5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2B28-6DAE-4681-AA45-C4635460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021D-25A8-4D12-A177-F5925AFD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AFC1-7F01-41D7-BBA7-29EFE955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849-893B-40D4-8955-D02A43C5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824-012B-4582-989D-1E03D71D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A2C7-F169-433D-9C2F-AD18C19C6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Type e Arqu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qu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eitura informaçõ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AD LONG num, var_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AD FLOAT num, var_fl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AD FILE num, variá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eitura de variável gené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AD STRING num, string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eitura de texto /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qu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Gravando informaçõ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WRITE LONG num, var_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WRITE FLOAT num, var_fl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WRITE FILE num, v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Gravação sem especificar tipo – gené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WRITE STRING num, string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Gravação de textos /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qu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erenciação bás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ando valores em seu respectivo tipo = economia de espaço (em dis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ando em FLOAT, lendo em STRING = erros de valores na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zação de arquivos: conhecer a organização, ordem e tipo de valores que foram gravados / serão l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hecer a estrutura (organizar): ess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qu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evenir erros antes de leitura de arquiv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sult = FILE EXIST(Filen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hecer o diretório do jog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turn String = GET DIR$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tar o diretório do jogo: para leitura de arquivos em geral (e gravaç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T DIR Path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T DIR “C:\MEUJOG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qu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BPRO permite um bom controle de arquivos: copy, delete, rename, diretorios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nsultar manual para funções extra – caso necessário (FILE COMMA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tura de d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r e otimizar o códi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r programação, diminuir o número de variáveis nominais = organiz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Precisamos de variáveis específicas para cada objeto / elemento do jog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locidade, animação, posição, estado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riação de TYPE / estrutura de dados facilitando nosso trabal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YPE nome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ampo1 as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ampo2 as INTE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ampo3 as FL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ND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riáveis tem funcionamento normal, só aninhadas dentro de uma estru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a variáveis FLOAT neste caso, não é necessário usar # após o nome da 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antidade e tipo de campos dentro do TYPE definidos pelo usu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clarando uma variável do tipo que criam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nomevar AS nome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Uma estrutura útil para nossos objetos (varia de acordo com o projeto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YPE ent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x as 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y as 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z as 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gx as 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gy as 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gz as 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stado as int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imacao as int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elox as 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mpo as int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ND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clarando objetos / variáveis de controle com tipo de estrutura cri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LAYER AS ENT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sando a estrutura / variáve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layer.X = OBJECT POSITION X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OVE OBJECT 1, player.vel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uncionamento normal, aces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Variavel_nome.campo_n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qu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zação de arquivos em jog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var configur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var reco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r comportamentos, posi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r / salvar valores em geral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 imaginação = recurso muito útil e necessário para algumas funções do j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qu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gramas em geral, dois tipos básicos de abertura para arqui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eitura: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Gravação: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PEN FILE TO WRITE “filename.ext”, 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PEN FILE TO READ “filename.ext”, 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rquivo mantém-se aberto: sempre fechá-lo após util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LOSE FILE 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qu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o passo: abrir arqu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o passo: ler / escrever conteúdo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o passo: fechar o arqu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itura ou Gravação de informações: saber o tipo de conteúdo que será lido / escr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2:23:35Z</dcterms:created>
  <dc:creator>A.B.</dc:creator>
  <dc:description/>
  <dc:language>en-US</dc:language>
  <cp:lastModifiedBy>A.B.</cp:lastModifiedBy>
  <dcterms:modified xsi:type="dcterms:W3CDTF">2008-10-15T13:33:20Z</dcterms:modified>
  <cp:revision>7</cp:revision>
  <dc:subject/>
  <dc:title>Dark Basic Pro: Type, Arquivos</dc:title>
</cp:coreProperties>
</file>