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F18-2EEF-4D9C-9D59-9E4ED7D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94C-B3F2-4E33-9F8A-B63F026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817-72F9-47CA-A9EE-56A2F9F4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706-8D38-437D-81A1-24EF5763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0F8-283C-4D5E-B72F-17BF3167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67C-E419-49B3-8D2B-86EC805F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707-FD43-41E2-8AE6-2B0A91F8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DEE-C5B1-4CDF-966C-5852F33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545-6884-45CF-9F07-A6BC2FEC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E44-7AE4-4FAD-9E8B-41F4FFE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99C-C740-4019-BE3A-957A001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CAD-BCF0-4A4C-949D-CC7FB2D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F04-D3EF-4408-A6A9-2098C39BA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ídeos (Animation), D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ídeos = Animation (DB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tos permitid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VI, MPEG, Quickti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back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básica em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berturas, conclusões de fase, cut-sc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ídeos em texturas: televisão na cena 3D, projeções, efeito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e vídeos, 1o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ANIMATION “filename”,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víde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OP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es adic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P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US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o final de um ví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 = ANIMATION PLAYING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ANIMATION PLAYING(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20,20, “Final do Víde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posicionar vídeo na tela, determinar escala (taman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CE ANIMATION num, x, y, dx,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dar em tela che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0, Y = 0 , dx = SCREEN WIDTH(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y = SCREEN HEIGH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mover o vídeo (posição e escala) em tempo real, alternando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dar o vídeo em uma imagem (tex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 a imagem for textura de objeto = vídeo na tex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Y ANIMATION TO IMAGE num vid, num imagem, x, y, dx, 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,Y = coordenadas de início, relação 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X, DY =  tamanho (coordenadas finais), relação 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 / D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vídeos de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DVD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ndo número do título e cap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DVD CHAPTER Number, Title Number, Chapter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6:26:38Z</dcterms:created>
  <dc:creator>A.B.</dc:creator>
  <dc:description/>
  <dc:language>en-US</dc:language>
  <cp:lastModifiedBy>A.B.</cp:lastModifiedBy>
  <dcterms:modified xsi:type="dcterms:W3CDTF">2008-10-08T16:41:31Z</dcterms:modified>
  <cp:revision>4</cp:revision>
  <dc:subject/>
  <dc:title>Dark Basic Pro: Vídeos (Animation), DVD</dc:title>
</cp:coreProperties>
</file>