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8A1-C36D-4CF9-8829-C314FEE4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525-3341-48AE-999A-E4E4273D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89F-2557-439A-99FE-A7947B60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F81-3E88-4122-8812-84420449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393-5D14-4514-B129-D1504167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3D8-FE01-4FFA-8549-4036847D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4BF-FD0A-4ADE-B146-8D85DEA8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E39-4449-49C9-9561-919C50B1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7D8-0730-4E80-B672-3EB831A9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0A2-3F48-4084-9011-1AA76132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827-B7C0-45EF-B589-28771C9B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F67-5EE8-4348-9FBF-24477433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EF73-4DB6-45EB-8852-A7699A19E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rk Basic Pro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ndos 3D, Objetos e movi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os texturiz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bjeto: textura + colorização + luzes (cena + dinâm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ura = recurso de suma importânci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udança de bmap: bola de futebol, de neve, de concret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50920" y="285264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aço continuo = programa rod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tamento interações – teclas,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tamento de respostas, movimentos, ev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tamento coli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gras do j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ma passagem por ciclo (tela renderizada) = F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inal do laço = fim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: avaliando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clas básicas = funções nomes próp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IGHTKEY(), LEFTKEY(), UPKEY(), DOWNKEY()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tando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YROTATE OBJECT NUM*, ÂNGULO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XROTATE ou ZROT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tar objeto para ângulo = usar variável para que possamos mudar este ângulo dinam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Programa: rotando obj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Código básico setas lados = rotaçã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direção#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IF RIGHTKEY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direção# = direção#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YROTATE OBJECT 1, direção#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IF LEFTKEY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direção# = direção#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YROTATE OBJECT 1, direção#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LOOP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: movimento b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VE OBJECT NUM*, VEL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imento na direção / rotação do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imento frontal (velocidade positiva) para onde apo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ódigo básico – setas move frente / 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KEYUP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 OBJECT 1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KEY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 OBJECT 1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: movimento b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OVE OBJECT UP num*, v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OVE OBJECT DOWN num*, v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vimento para cima / baixo = pulos e gra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OVE OBJECT LEFT num*, v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OVE OBJECT RIGHT num*, v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vimento de strafe = deslocamento lateral, sem alterar rotação original (passo ao lado, ainda virado para f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: câ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 = nossa visão dentro do mundo virtual, precisa acompanhar a 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o Câmera = tem posição, rotação,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 0 = câmera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: câ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 apontando sempre para nosso objeto – precisa saber posição de nosso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ódi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x# = object position x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y# = object position y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z# = object position z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INT CAMERA 0, posx#, posy#, posz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: câ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INT CAMERA = câmera rotacionada para nosso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 não move (posição), apenas suas rot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nário B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 referências no cenário = conf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ando obstáculos básicos: caixas / m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OBJECT BOX NUM, LARG., ALTU.,PROF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cionando objetos direta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TION OBJECT NUM, X, Y,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nd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mática é fund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sencial percepção de coordenadas, mundo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ção de uma realidade, idéia = j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gos 3D = Objetos / Elementos ocupam uma posição, tem uma rotação, e uma área / tama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ndo real = eu ocupo uma posição, uma área e estou orientado para uma dir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nário B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ódi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KE OBJECT BOX 200,200, 100,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OAD IMAGE “PAREDE01.JPG”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URE OBJECT 20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TION OBJECT 200, 200, 0,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ONE OBJECT 200, 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ONE OBJECT 200, 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TION OBJECT 201, 400, 0,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TION OBJECT 202,  -400, 0,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74520" y="41497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arede0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nário B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: câ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 seguir ação = person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CAMERA TO FOLLOW X,Y,Z, angulo, dist., altura., smooth, colis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ódigo progr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CAMERA TO FOLLOW  posx#,posy#,posz#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ao#, 100, 20,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 Básico: sem coli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afio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ivo: testar comandos já utilizados, melhorando nosso programa te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cluir comandos por teclas A,S,D,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e D = movimento lateral = Str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cluir rotação lateral (Y) pelo movimento  do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cluir distância da câmera pelo mouse wheel (limitar distancia min. e max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nd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stema de coordenadas – Dark 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2643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nd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tos possuem uma posição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tos tem eixos próprios, paralelos aos eixos do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2205000"/>
            <a:ext cx="55454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ndos 3D / Obj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otação Objetos: para onde apont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X = Tilt, Pitch (olhar para cima / baix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Y = Pan (rotação lateral, olhar lados: direção carr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Z = Roll (rotação menos comum: inclinação moto em curv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66978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ando Obj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ark Bas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mitivas / Objetos básicos = fácil cr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63640" y="2349360"/>
            <a:ext cx="554508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ando Obj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mportante: Dark Basic = Todos objetos num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udança propriedades: referência pelo 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ódigo básico criação primitiv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KE OBJECT SPHERE*  NUM*, TAMANHO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, LINHAS*, COLUNAS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50920" y="3860640"/>
            <a:ext cx="475164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ando Obj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bjetos brancos, sem textura por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orização básica – Coma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OR OBJECT NUM*, COR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r = RGB(RED, GREEN, B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iação componentes de cor 0..25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ranco = RGB(255,255,2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eto = RGB(0,0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ódigo: Nosso objeto  em Az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OR OBJECT 1, RGB(0,0,2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ando Obj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urização Básica: atribuir imagem para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uras: BMAPS (.BMP, .JPG, .PC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imensões potência de 8 (pixels): 64x64 , 256x128, 512x5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rregando uma imag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OAD IMAGE “arquivo”, num image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tribuindo textura (imagem) para obje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URE OBJECT num objeto, num im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ódigo: texturizando nosso obje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OAD IMAGE “bola01.jpg”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URE OBJECT 1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16720" y="285264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589080" y="45813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ola0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20:47:20Z</dcterms:created>
  <dc:creator>A.B.</dc:creator>
  <dc:description/>
  <dc:language>en-US</dc:language>
  <cp:lastModifiedBy>A.B.</cp:lastModifiedBy>
  <dcterms:modified xsi:type="dcterms:W3CDTF">2008-08-11T21:43:43Z</dcterms:modified>
  <cp:revision>11</cp:revision>
  <dc:subject/>
  <dc:title>Dark Basic Pro Mundos 3D, Objetos e movimentos</dc:title>
</cp:coreProperties>
</file>