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2A7-CA2B-4A23-ADFB-D2006741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926-EA04-4E4B-A182-85E195A2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CD6-B2FF-4065-958A-5DDD25F2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BA4-91D2-4DE7-B4C3-CD2D56FB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449-1EEC-4B43-96E6-526D86AF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3C1-734C-44AB-ABC6-1750BD6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B9B-6858-4343-81A8-03EF344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A36-8643-46C8-A404-E03B5093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682-443A-45EA-855F-1072A2CD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B6B-403A-42C0-AB28-6E61EFB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A44-C0E3-4EE8-A1AF-20351FA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D38-14CA-411D-A412-05F35428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E02-3928-4903-9CC4-F9E5F04C7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BPro – por padrão, renderiza o número máximo de telas por seg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PS Livre - Aspectos nega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uita diferença entr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blemas matemát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: Comando para adicionar 1 ao ângulo de direção, em 30FPS, adiciona 30 graus ao ângulo em 1 segundo, em 200 FPS, adiciona 200 graus ao ângulo por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r FPS máximo (defaul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YNC O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terminar FPS para o jogo (melhor maneira de manter padrão em diferentes máquin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YNC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YNC RATE FP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 SYNC ON, forçar a sincronização no final do loop do jogo (renderizar te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YN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YNC ao final do loop, padrão para jogos com DB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PS = Frames per second, telas por 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lho humano, acima de 12 FPS, normal não lembrar de todas imagens exib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5 FPS desenhos animados, movimento percebido como contínuo (cérebro completa quadros, espaços e movi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30 FPS padrão de telev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ogos 30 a 60 FPS = ótima continu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PS superiores são desnecess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utras 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rreção por FPS: Observar o frame rate, e adicionar uma variável de controle em todas fórmulas matemáticas do j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 FPS normal, recebe o valo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 FPS abaixo, recebe o valor corrigido (maior para compens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 FPS maior, recebe  o valor corrigido, menor (para compens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umas engines apresentam uma variável para correção de cálculos pelo FPS, não é o caso do DB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6:23:20Z</dcterms:created>
  <dc:creator>A.B.</dc:creator>
  <dc:description/>
  <dc:language>en-US</dc:language>
  <cp:lastModifiedBy>A.B.</cp:lastModifiedBy>
  <dcterms:modified xsi:type="dcterms:W3CDTF">2008-09-03T20:09:43Z</dcterms:modified>
  <cp:revision>6</cp:revision>
  <dc:subject/>
  <dc:title>Sync e Frame Rate Movimentos Refinados</dc:title>
</cp:coreProperties>
</file>