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E39-38F2-4C1F-B839-0EC90244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D76-EF8D-4AF2-9EAC-EE26E05A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25F-FAF6-46A3-B669-AC0E66E5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2EA-B532-4BB8-94B9-1CF1BB12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811-CC3B-41FF-A7AA-E2F01E50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CDD-FEA1-429E-A6F6-BDAEEF79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96A-C5D9-46A6-B4F9-1491342C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985-FA72-4FDB-ABEB-1922E2BF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237-E9ED-417F-AFF2-2AD329A8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13A-25ED-4CF9-BFDA-34B556B4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8EC-64BC-4FF4-8165-51C54DF6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E7E-8D8E-4AEA-9D10-5B7F260D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40D1-3AB9-467C-BD01-029A5F319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odelos 3D – Part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imitivas básicas (box, sphere, etc) construídas direto pelo DB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delos complexos = construídos com programas auxiliares (3D Max, Maya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ipos de Modelos aceitos no DBP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X, .3DS, .M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arquivo de um modelo inclu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ção da malha (mesh) = forma do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ção de tex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ção de animações próp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arquivos .X e .3DS, copiar o arquivo do modelo e o(s) bitmap(s) de text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texturização é automática, definida já na construção do mode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rquivos .MDL = já incluem a textura j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regando modelos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AD OBJECT “arquivo.X”,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ação dos modelos é normal, como as primitivas bás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 uma posição X,Y,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 uma rotação X,Y,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Podemos substituir nossa esfera dos exercícios diretamente por um modelo mais complexo, e manter o resto dos cód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tamanho dos modelos (dimensões) é definido em sua criação (normalmente em outros progra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imensionar um mode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LE OBJECT num, X, Y,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para escala: 100 = tamanh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mos variar a escala de um modelo com valores diferentes em X, Y e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de model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otrod1.x” (mode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otrod1.BMP” (tex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321080" cy="313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331344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867280" y="1197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ubstituição simples em nossos exemplos, usar modelo ao invés de e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mover linha de criação de esfera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KE OBJECT SPHERE 1,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serir um modelo como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OAD OBJECT “hotrod1.x”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os os comandos anteriores, de movimento, colisão e rotação se mantém funcionais (iguais), e agora temos um modelo melhor para o jogad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95640" y="1989000"/>
            <a:ext cx="5761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7:54:36Z</dcterms:created>
  <dc:creator>A.B.</dc:creator>
  <dc:description/>
  <dc:language>en-US</dc:language>
  <cp:lastModifiedBy>A.B.</cp:lastModifiedBy>
  <dcterms:modified xsi:type="dcterms:W3CDTF">2008-09-03T20:16:48Z</dcterms:modified>
  <cp:revision>2</cp:revision>
  <dc:subject/>
  <dc:title>Dark Basic Pro: Modelos 3D</dc:title>
</cp:coreProperties>
</file>