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FAF-3171-4A71-B9B1-BA99B9A5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6C32-DA28-4F52-B568-E9369FE8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63F-2749-48C8-8E9B-C62F46B0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1DC-C709-4EC0-8001-68DACE7C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557-E491-41E9-BCF0-D08DD690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C640-B40C-4BAA-9787-BF5AFA41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E161-59FB-4400-A9FB-28E47363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537-8848-439B-9CF2-5B4AB81B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B5F-3FA1-4BBF-9D53-478E44E9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426-4ED2-41B4-93C0-67404764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6E1-BEC7-437C-BF33-6C96393B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6D2-05B7-4A7D-AFF6-9E6C366A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41C3-B442-4DD3-AD93-5B1B95877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ovimentos 3D refin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ment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gredo para movimentos melh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álculo mais complexo (realístico) de uma velocidade para os mov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ISSO: Utilizar variáveis para controle de velocidade, e transformação de veloc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mento / Velocidade mais realística inclu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l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ic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ment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o simples, funciona, mas não muito eficaz, não realíst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UPKEY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OBJECT 1,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DOWNK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OBJECT 1,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ment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do mais adequado, transformar a velocidade, utilizando variáveis, para velocidade atual, aceleração, e centralizar o comando de movi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F UPKEY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elo# = velo# + acel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F DOWNKEY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elo# = velo# - acel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VE OBJECT 1, velo#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ment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ndo uma velocidade de aceleração é necessário controlar a velocidade máxima e mínima que o objeto pode alcanç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ca: usar variáveis para controle de velocidades máxima e mín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 forma si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F velo# &gt; velo_max# then velo# = velo_max#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F velo# &lt; velo_minx# then velo# = velo_min#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ment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tilizando uma variável para controle de velocidade, é necessário criar uma fricção, para voltar essa velocidade a zero (inércia) e parar o mo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ecessário criar uma fricção para velocidade positiva e negativa (se for o ca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 forma si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F velo# &gt;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elo# = velo# - friccao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F velo# &lt; 0 then velo#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ND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ment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 um código composto, utilizando variáveis para velocidade, aceleração e fricção, se tem um movimento mais realístico (que é o esperado em g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Jogando com aceleração, fricção, e velocidade máxima, transformamos o movimento de nosso player em uma nave, caminhão, ou carro de corrida, com a mudança simples de val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6:54:43Z</dcterms:created>
  <dc:creator>A.B.</dc:creator>
  <dc:description/>
  <dc:language>en-US</dc:language>
  <cp:lastModifiedBy>A.B.</cp:lastModifiedBy>
  <dcterms:modified xsi:type="dcterms:W3CDTF">2008-09-03T17:12:36Z</dcterms:modified>
  <cp:revision>3</cp:revision>
  <dc:subject/>
  <dc:title>Dark Basic Pro: Movimentos 3D refinados</dc:title>
</cp:coreProperties>
</file>