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614-7AF7-477C-8260-217A379F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BFF-BDD4-4779-9A09-0FCD809B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381-2612-42F3-97A4-3987E2E6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1CA-28F0-4E09-8C4E-D7039731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4F0-7868-42F6-A4E6-DB8CD50D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8DC-DCE3-47DA-9D05-F68471A1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6A4-9326-42B0-8223-415494C7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009-A552-424D-8380-2509C6AC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BF4-B058-4D74-BEDB-58649D7B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526-D024-49A6-A7C6-9B07A38D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810-CC69-4530-9D1B-FF840C61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49B-958C-46A9-8ECD-BD5602FF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DFD5-327B-4F0B-ABA3-D8B322DCC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usic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 3D: calcula automaticamente lado do som (caixa), e distancia (volu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 som 3D,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quivo WAV, M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 3DSOUND “arquivo.WAV”,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som 3D necessitamos duas posi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ção X,Y,Z da fonte do som (onde o som ocor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ção X,Y,Z do listener (de onde estamos escuta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ção do som (posição do objeto que emite o so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TION SOUND num, X, Y,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sição e ângulo do Listener ( de onde estamos escutan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STENER =  normal é a posição da câmera, que é nossa visão dentro do j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TION LISTENER X,Y,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OTATE LISTENER angx, angy, ang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emplo básico: toca som único em uma colisão (previne – som não tocando ain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F colisao &lt;&gt;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F SOUND PLAYING(1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LAY SOUN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úsica: CD, arquivos MP3 ou MI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IDI = super leves, baseados apenas em instrumentos e notas (baixo process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P3 = alta qualidade, músicas completas, compactadas (requer process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D = música em CD pouco utilizada em dias atuais com jo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ntagem CD: rodar música em CD não onera o processamento da máqu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serir música nos jog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OAD MUSIC “arquivo.MP3”,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LAY MUSIC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OOP MUSIC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TOP MUSIC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USE MUSIC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SUME MUSIC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MUSIC VOLUME num,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Volume 0..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ermite extrapolar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MUSIC SPEED num, velo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Velocidade 100 = velocidade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 PLAYING(num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etorna 1 se musica tocando, 0 = n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mplo básico de fade na música (baixar volume e desliga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USIC PLAYING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USIC VOLUME(1)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= MUSIC VOLUME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= volume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MUSIC VOLUME 1, volu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volume &l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MUSI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ocar música em CD (pouco usu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OAD CDMUSIC faixa, numero (para o progra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aixas totais no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as = GET NUMBER OF CD TRACK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ação de Sons nos jogos (arquivos WAV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AD SOUND “arquivo.WAV”, nu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 SOUND nu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P SOUND nu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SOUND nu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SE SOUND nu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ME SOUND nu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SOUND SPEED num, veloc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dade 100 =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SOUND VOLUME num,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100 =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cando = SOUND PLAYING(n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orna 1 = tocando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terminando o lado do som (caixa esquerda ou direita) =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T SOUND PAN num,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PAN: valores de -10.000 até 1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PAN -10.000 = som na caixa esqu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Default: 0 = som ambas cai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7:23:03Z</dcterms:created>
  <dc:creator>A.B.</dc:creator>
  <dc:description/>
  <dc:language>en-US</dc:language>
  <cp:lastModifiedBy>A.B.</cp:lastModifiedBy>
  <dcterms:modified xsi:type="dcterms:W3CDTF">2008-09-03T20:14:49Z</dcterms:modified>
  <cp:revision>3</cp:revision>
  <dc:subject/>
  <dc:title>Dark Basic Pro: Music e Som</dc:title>
</cp:coreProperties>
</file>