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3ADB8-DD42-4CFA-980F-ECB531443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0B282-B0A1-4A6A-B2B6-F8DBA7A6A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FA712-A3E9-416A-B780-B87C6CC8E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E3D8A-D6D8-4288-B04C-4914A03F5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3C6ED-0EDD-45F4-94B6-DFF71D3C8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EA9F7-10BD-48F2-A312-EEA5FAF71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33DC2-EE0D-4898-A56F-52628341F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53066-7E50-4E7D-BE86-5A20C5F74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9B801-513B-42AC-A545-F909C8E54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8B61C-13DB-4CA6-B887-5C9C0759F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5E13F-CAA7-487F-B437-17A8B39EA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23BB0-0659-4EBF-9D48-3F054F59D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D3D8175-5222-4248-87A3-B5A5C3663D04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rojeto de jogos RAD:</a:t>
            </a:r>
            <a:br>
              <a:rPr sz="4000"/>
            </a:b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nimações – Parte 2</a:t>
            </a:r>
            <a:br>
              <a:rPr sz="4000"/>
            </a:b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odelos Animado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Augusto Bü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Unity3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02440" cy="62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Animações disponíveis, como usa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Cria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Scripts ativando animações na hora cer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Criar regras para animações bási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Com velocidade = andan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Sem velocidade = parado (id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Comandos – iniciam animaçõ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Botão pulo = pul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Even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Atingido = anima / mor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Et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spcBef>
                <a:spcPts val="700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spcBef>
                <a:spcPts val="700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spcBef>
                <a:spcPts val="700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Unity3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02440" cy="62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Usando Modelo como play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Atribuir tipo de colisã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(Rigidbody ou CharacterControll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Criar códigos para movimento (scrip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EX: Player com CharacterControl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Inserir CharacterController no mode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Criar script básico de controle do movimen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spcBef>
                <a:spcPts val="700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spcBef>
                <a:spcPts val="700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spcBef>
                <a:spcPts val="700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Unity3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02440" cy="62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Código base – move (CharacterControlle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var forca_move : Vector3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var forca_rota : Vector3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var velocidade = 20.0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var gravidade = 0.5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function Update () {</a:t>
            </a: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forca_move.x = Input.GetAxis("Horizontal") * Time.deltaTime * velocidad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forca_move.y -= gravidade * Time.deltaTim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forca_move.z = Input.GetAxis("Vertical") * Time.deltaTime * velocidade;</a:t>
            </a: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forca_move = transform.TransformDirection(forca_mov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pointer = GetComponent(CharacterController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pointer.Move(forca_move);</a:t>
            </a: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forca_rota.y = Input.GetAxis("Mouse X") * 2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transform.Rotate(forca_rota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spcBef>
                <a:spcPts val="700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spcBef>
                <a:spcPts val="700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spcBef>
                <a:spcPts val="700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Unity3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02440" cy="62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Animações, definir regras bás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Movimento = velocidade = anima an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//ANIMACA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if (Mathf.Abs(forca_move.z) &gt; 0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//animation.CrossFade("wal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animation.Play("wal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else 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//animation.CrossFade("idle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animation.Play("idle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spcBef>
                <a:spcPts val="700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spcBef>
                <a:spcPts val="700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Unity3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02440" cy="62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Animações por comandos específ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Pulo = anima pul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var no_chao : boolea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if (Input.GetKeyDown("space") &amp;&amp; (no_chao)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forca_move.y = forca_pulo;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animation.CrossFade("jump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pointer.Move(forca_mov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no_chao = pointer.isGrounded; // APÓS O MO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Unity3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02440" cy="62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Necessário criar / aprimorar regr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Se pulando não entra na regra de animação por velocid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Como fazer? Variáveis. EX: var pulan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Só acessa regra velocidade senão pulan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Algumas animações tem que ser protegidas, priorizad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Alguns casos, travando inclusive controles adicionais do play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spcBef>
                <a:spcPts val="700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Unity3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02440" cy="62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if (Input.GetKeyDown("space") &amp;&amp; (no_chao)) {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forca_move.y = forca_pul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animation.CrossFade("jump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pulando = 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}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if (no_chao &amp;&amp; pulando == 1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pulando = 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Unity3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02440" cy="62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Sincronizar momento da animação com 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Atirar no momento certo da animaç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Pular no momento certo da animaç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Vários modos de fazê-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Evento vinculado na animação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Checar tempo atual da animação e disparar códi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spcBef>
                <a:spcPts val="700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((animation["jump"].time &gt;= 0.2 ) &amp;&amp; (pulando == 1)) {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rca_move.y = forca_pul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ulando = 2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Unity3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02440" cy="62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Segurando uma animação (pulo = no a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Possível usar animações separadas para os estágio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pular, no ar, volta ch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Possível codificar para manter animação em um pont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(pulando == 2 &amp;&amp; animation["jump"].time &gt;= 0.6 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imation["jump"].time = 0.6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if (no_chao &amp;&amp; pulando &gt;= 2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if (animation["jump"].time &lt; 0.9) {  pulando = 3;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else  { pulando = 0;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Unity3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62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Modelos Animad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Produzidos em softwares de criação 3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Animações: Mocap e outras técn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Formatos (programa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Maya, Max, Blender, Cinema4D, Lightwave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Formatos .FBX, .OBJ, .3DS, .DX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FBX – bom formato 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(exportação / importaçã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Unity3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62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Formatos comuns, não necessitam software adicion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FBX, OBJ, 3DS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Formatos específicos, necessitam programas adicionais no siste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MAX, MAYA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Unity3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62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Animações exportadas junto ao mode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Animações: Arquivo únic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Split: define-se quadros para cada anim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Saber o plano de animações: definir quad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Animações: Arquivos separa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EX: nomemodelo@nomeanima.FB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Importa-se todos arqu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Junção – uso - automát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Unity3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62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Incluir modelo = Import New As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Arquivo principal mode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Animações arquivos separados (nome@anim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4067280" y="3357720"/>
            <a:ext cx="4635360" cy="250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Unity3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62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Modelo tem constituição variad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Número de meshes, partes, bones,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Depende do artista que o fe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Tamanho controlável na importaç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Propriedades do mode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FBX Impor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Scale Fa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spcBef>
                <a:spcPts val="700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Unity3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70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12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395280" y="1557360"/>
            <a:ext cx="4753080" cy="38750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5292720" y="1557360"/>
            <a:ext cx="3492360" cy="193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Unity3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62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Importando textura do mode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Importar BMA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Material criado automaticamente 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Re-atribuir BMAP para o mate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spcBef>
                <a:spcPts val="700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2843280" y="3860640"/>
            <a:ext cx="3429000" cy="233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Unity3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827520" cy="62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Importar animaçõ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Arquivos adiciona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Mesma Escala (fator)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Animações disponíveis no modelo (cen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Atribuição animas = automático (mesmo nome@anim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Anima selecionável: test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spcBef>
                <a:spcPts val="700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spcBef>
                <a:spcPts val="700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067280" y="1484280"/>
            <a:ext cx="4895640" cy="4049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19:54:45Z</dcterms:created>
  <dc:creator>A.B.</dc:creator>
  <dc:description/>
  <dc:language>en-US</dc:language>
  <cp:lastModifiedBy>A.B.</cp:lastModifiedBy>
  <dcterms:modified xsi:type="dcterms:W3CDTF">2010-05-26T22:04:30Z</dcterms:modified>
  <cp:revision>99</cp:revision>
  <dc:subject/>
  <dc:title>Projeto de jogos: Ferramentas de desenvolvimento rápido </dc:title>
</cp:coreProperties>
</file>