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EF5-C8BA-48C9-9E7A-F599FB0D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3C6-E0D9-44FC-AAA1-0765270B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CD8-4224-49DF-997F-BAFCB23D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BB1-076A-4140-BF34-DF8D56EF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E09-5FC3-4834-8B71-E94D0B03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385-C2BD-44FD-BE50-18227FAF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2E6-6206-4873-8C47-19A34E58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9B5-00C8-4685-9F7A-FBC6B450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C99-BC03-4001-AC55-62A198D8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3BA-9197-47D2-90DC-8E668129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9AC-253A-4B1C-875F-EE4E2AA2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69A-0166-4DAD-8F0E-FCEF1563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45A8B4-73C5-4B74-AE35-FDF6C9315E1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âm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dicionalmente câmera pode ser Ortográfica (sem perspect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pecífica para algumas visões / j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modo_camera == 4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y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z = -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eulerAngles = Vector3(30, 0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amera.orthographic = enabl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amera.orthographicSize 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1a Pess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gue posição do 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gue rotação do 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+ ângulos adicionais : Mouse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ão movem o player – apenas a câ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ura adicional +  posição dos ol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mera 1a Pessoa : Código Bá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r jogador : Transfor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r altura_olhos = 0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(modo_camera == 5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ansform.position = jogador.posi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ansform.position.y += altura_olh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ansform.rotation = jogador.rot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mera 1a Pessoa : Código Básico + Ângulo adicional (cima / baix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modo_camera == 5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 = jogador.posi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y += altura_olh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rotação basica X  inclinação (TILT) move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ux_x += -Input.GetAxis("Mouse Y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ulo_camera.x = jogador.rotation.x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+ aux_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ulo_camera.y =  jogador.eulerAngles.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ulo_camera.z = jogador.eulerAngles.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eulerAngles = angulo_camera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3a pessoa, seguir em posição relativa ao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rás, X di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cima, Y di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+ Olhar para o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lcular posição rel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relação ao ângulo do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igonome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ição relativa (em relação ao âng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rigonometria básica (Seno e Cose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lasse Math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n e Cos = usam medidas em 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verter Rad em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ad = ângulo * Mathf.Deg2Ra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rau = ângulo * Mathf.Rad2De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dist_segue = -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altura_segue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modo_camera == 6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angulo = jogador.eulerAngles.y * Mathf.Deg2R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x = jogador.position.x + dist_segue *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thf.Sin(angul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y = jogador.position.y + altura_seg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z = jogador.position.z + dist_segue *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thf.Cos(angul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LookAt(jogad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rbitar player = posição relativa (ao ângulo) + ângulo adicional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Estilo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modo_camera == 7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ulo_matrix +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x = jogador.position.x + dist_segue *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thf.Sin(angulo_matrix * Mathf.Deg2Ra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y = jogador.position.y + altura_seg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z = jogador.position.z + dist_segue *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athf.Cos(angulo_matrix * Mathf.Deg2Ra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LookAt(jogad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ield of View (FOV) campo de v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bertura da lente (Câme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unciona co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Zoom (sniper, binóculo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spectiva maior (distância e veloci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("i"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mera.fieldOfView += 5 * Time.delta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("o"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mera.fieldOfView -= 5 * Time.delta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nder Port (view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finição de tama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finição de posição na t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lores de 0..1 (porcentagem da t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454560" cy="1168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411280" y="3213000"/>
            <a:ext cx="525636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= nossos olhos no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ame: Mostra o que a câmera apo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s variadas = tipo de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a pessoa, 3a pessoa, fixa, top / sid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tender câmera como objeto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ção : onde está no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Ângulo : para onde aponta (o que focali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ibilidade de inserir mais câmeras de jogo (independen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da câmera com suas definições de tamanho e pos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da câmera com sua posição e âng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3068640"/>
            <a:ext cx="554508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ição de Corte (Cl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istancia da camera objetos não são render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óximos e di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=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+ necessidade de distancia por cenário e tipo de j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nter menor distancia possível  (f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ear – próximos a câ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ar – distantes da câ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716360" y="3860640"/>
            <a:ext cx="2933640" cy="23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m todos os momentos do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âmera em uma posição (X,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âmera com uma rotação (X,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sultado = cena do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mostra a ação do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essencial gameplay 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s prontas : 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tandard Assets -&gt; Camera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use Loo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vimento mouse = ângulos da câ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mites básicos de âng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ormal 1a pess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24360" y="3716280"/>
            <a:ext cx="295308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ódigo básico para Mouse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_angulo.y = Input.GetAxis("Mouse X")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_angulo.x = -Input.GetAxis("Mouse Y")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_angulo.z = 0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adiciono a forca aos angulos atuais da camer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ulo_camera += forca_angulo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limites nos angulo_camer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gulo_camera.x = Mathf.Clamp(angulo_camera.x, -30, 30)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rotar a camera diretamente - uso eulerAngles facilita a r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eulerAngles = angulo_came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mooth Look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lhando para o player (al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azer apontar para posição do f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aber posição do al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justar ângulos para visualizar al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+ Separar modos de câmera = 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ódigo para Smooth Look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r foco : Transfor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1")) { modo_camera = 1; }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"2")) { modo_camera = 2; }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modo_camera == 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LookAt(foc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 em posição fixa, olhando o al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r foco : Transfor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“3")) { modo_camera = 3; }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modo_camera == 3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y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x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LookAt(foc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âmera em posição fixa, com ângulo fi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op View / Side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lanejar e setar posição e ângulos (fix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Down(“4")) { modo_camera = 4; }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modo_camera == 4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y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position.z = -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eulerAngles(30, 0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5-03T22:04:28Z</dcterms:modified>
  <cp:revision>85</cp:revision>
  <dc:subject/>
  <dc:title>Projeto de jogos: Ferramentas de desenvolvimento rápido </dc:title>
</cp:coreProperties>
</file>