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7DC8-52A1-4DF1-8D5A-B3DBE4B5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ED03-E774-43C3-BBAD-D1351727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83E-0AC8-4490-BAC7-FA9A410C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922-FACE-487A-86A6-D8C31CF1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B53-9EAF-49F6-A01C-1990DCE1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3425-EEE4-4350-A9AD-C51A77D4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85C8-A0A8-455A-A668-8BD65E05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3F04-1BC9-462A-A02A-AEAB2A12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1D9-EC31-48FE-A1EF-FE36B451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049-AF91-4E85-8E41-AFB7E4A8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7A8-ADC1-4D16-B34C-A537D418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7F8D-EC97-4B45-B456-5297DD2F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8841E-C7EE-4563-9FCB-A65F5E8E7DCA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jeto de jogos RAD: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paros, tiros e ba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ossíveis problemas neste po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iros sem dela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uitas balas criadas (1 por ciclo) = auto colisão entre ba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lisão com objeto “emisso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iro disparado da posição do player = auto colisão com o 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icializado dentro da área de colisão de “quem dispar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mporizar tiros: delay mínimo entre-tiros (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ormal arma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ar timer_tiro = 0.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ar delay_tiro = 0.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ZERA TIMER ENTRE TI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(timer_tiro &gt;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timer_tiro -= Time.deltaTi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DISPARA TECLA + TIMER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(Input.GetButton("Fire1") &amp;&amp; timer_tiro &lt;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timer_tiro = delay_tir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tira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ição inicial bala  = fora da colisão do emi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alcular Posição relativa  = a frente (fora colli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ar posicao_bala : Vector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ar dist_tiro = 1.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ar altura_tiro = 0.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function Atira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calculando posicao relativa - a frente - evita colisao p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ar angulo = transform.eulerAngles.y * Mathf.Deg2Ra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sicao_bala.x = transform.position.x + dist_tiro * Mathf.Sin(angul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sicao_bala.y = transform.position.y +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ltura_tiro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sicao_bala.z = transform.position.z + dist_tiro * Mathf.Cos(angul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CRIA TIRO POSICAO LI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nstantiate(bala, posicao_bala, transform.rotati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ando efeito para explosão da b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ar um objeto : controlar a explo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ransformar em Prefab pós pronto (re-u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iar objeto vaz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icionar / Criar efeito explosão (partícul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icionar Particle Emitter + Particle Renderer + Particle Anim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tar Renderer -&gt; Material -&gt; Fire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tar Emissor: OneS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tar Animator: AutoDe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oda uma vez e Auto-remove objeto Explo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cionar explosão no momento da batida : b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stanciar objeto explosão (Pref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digo bal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Arial"/>
              </a:rPr>
              <a:t>var explode = 0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Arial"/>
              </a:rPr>
              <a:t>var explosao_obj : Transform;</a:t>
            </a:r>
            <a:r>
              <a:rPr b="0" lang="pt-BR" sz="1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Arial"/>
              </a:rPr>
              <a:t>..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Arial"/>
              </a:rPr>
              <a:t>//cria explosao e destroi – centralizo cod. no upd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Arial"/>
              </a:rPr>
              <a:t>if (explode == 1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Arial"/>
              </a:rPr>
              <a:t>Instantiate(explosao_obj, transform.position, transform.rotation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Arial"/>
              </a:rPr>
              <a:t>Destroy(gameObject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ons acionados por 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acilidade:  Sons vinculados aos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Inserir Audio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Autoplay : play on aw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criaçao da bala: som disp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criaçao da explosão: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serir sons exemplo: arma01.wav, explo01.w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imigos IA = mesmo esquema de t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de-se aproveitar co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ferença: IA auto-ativa tiros, não tec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Criar estados especifico para atirar IA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Observar t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Observar posiça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não colidir ao inic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0">
              <a:spcBef>
                <a:spcPts val="601"/>
              </a:spcBef>
              <a:buNone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irador IA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var timer_atira =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var entre_tiros =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unction Update 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player = GameObject.Find("Play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transform.LookAt(player.transform.po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timer_atira -= Time.deltaTi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if (timer_atira &lt;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timer_atira = entre_tiro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Atira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unção atira = me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var bala : Transform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var posicao_bala : Vector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var dist_tiro = 1.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var altura_tiro = 0.6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function Atira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//calculando posicao relativa - a frente - evita colisao p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var angulo = transform.eulerAngles.y * Mathf.Deg2Ra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posicao_bala.x = transform.position.x + dist_tiro * Mathf.Sin(angul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posicao_bala.y = transform.position.y + altura_tir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posicao_bala.z = transform.position.z + dist_tiro * Mathf.Cos(angul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//CRIA TIRO POSICAO LIV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Instantiate(bala, posicao_bala, transform.rota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iros: analogia ao mundo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bjeto disparado com direção e veloc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Jogo : mesma 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bjeto próprio = b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elocidade(s) ini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rcebe / Trata colisões : códi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feitos: inicial, rastro, explo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efab: re-utilização b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6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ototipar objeto – criação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ando completo = cria-se PREF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riar Objeto Bala (esfe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ecisa de Collider (RigidBody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alas alta velocidade = desligar grav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igidBody / UseGravit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r Script controle básico da b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8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cript Bás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sparar 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icializar tiro (velocida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tivar efe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rceber colisões -&gt; Criar efe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rceber colisões -&gt; Re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mover distância * (finalizar sempre obje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78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247760"/>
                <a:tab algn="l" pos="1697040"/>
                <a:tab algn="l" pos="2146320"/>
                <a:tab algn="l" pos="2595600"/>
                <a:tab algn="l" pos="3044880"/>
                <a:tab algn="l" pos="3494160"/>
                <a:tab algn="l" pos="3943440"/>
                <a:tab algn="l" pos="4392720"/>
                <a:tab algn="l" pos="4842000"/>
                <a:tab algn="l" pos="5291280"/>
                <a:tab algn="l" pos="5740560"/>
                <a:tab algn="l" pos="6189840"/>
                <a:tab algn="l" pos="6638760"/>
                <a:tab algn="l" pos="7088040"/>
                <a:tab algn="l" pos="7537320"/>
                <a:tab algn="l" pos="7986600"/>
                <a:tab algn="l" pos="8435880"/>
                <a:tab algn="l" pos="8885160"/>
                <a:tab algn="l" pos="933444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ar vetor_forca : Vector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247760"/>
                <a:tab algn="l" pos="1697040"/>
                <a:tab algn="l" pos="2146320"/>
                <a:tab algn="l" pos="2595600"/>
                <a:tab algn="l" pos="3044880"/>
                <a:tab algn="l" pos="3494160"/>
                <a:tab algn="l" pos="3943440"/>
                <a:tab algn="l" pos="4392720"/>
                <a:tab algn="l" pos="4842000"/>
                <a:tab algn="l" pos="5291280"/>
                <a:tab algn="l" pos="5740560"/>
                <a:tab algn="l" pos="6189840"/>
                <a:tab algn="l" pos="6638760"/>
                <a:tab algn="l" pos="7088040"/>
                <a:tab algn="l" pos="7537320"/>
                <a:tab algn="l" pos="7986600"/>
                <a:tab algn="l" pos="8435880"/>
                <a:tab algn="l" pos="8885160"/>
                <a:tab algn="l" pos="933444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ar velo_tiro = 3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247760"/>
                <a:tab algn="l" pos="1697040"/>
                <a:tab algn="l" pos="2146320"/>
                <a:tab algn="l" pos="2595600"/>
                <a:tab algn="l" pos="3044880"/>
                <a:tab algn="l" pos="3494160"/>
                <a:tab algn="l" pos="3943440"/>
                <a:tab algn="l" pos="4392720"/>
                <a:tab algn="l" pos="4842000"/>
                <a:tab algn="l" pos="5291280"/>
                <a:tab algn="l" pos="5740560"/>
                <a:tab algn="l" pos="6189840"/>
                <a:tab algn="l" pos="6638760"/>
                <a:tab algn="l" pos="7088040"/>
                <a:tab algn="l" pos="7537320"/>
                <a:tab algn="l" pos="7986600"/>
                <a:tab algn="l" pos="8435880"/>
                <a:tab algn="l" pos="8885160"/>
                <a:tab algn="l" pos="933444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iniciali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247760"/>
                <a:tab algn="l" pos="1697040"/>
                <a:tab algn="l" pos="2146320"/>
                <a:tab algn="l" pos="2595600"/>
                <a:tab algn="l" pos="3044880"/>
                <a:tab algn="l" pos="3494160"/>
                <a:tab algn="l" pos="3943440"/>
                <a:tab algn="l" pos="4392720"/>
                <a:tab algn="l" pos="4842000"/>
                <a:tab algn="l" pos="5291280"/>
                <a:tab algn="l" pos="5740560"/>
                <a:tab algn="l" pos="6189840"/>
                <a:tab algn="l" pos="6638760"/>
                <a:tab algn="l" pos="7088040"/>
                <a:tab algn="l" pos="7537320"/>
                <a:tab algn="l" pos="7986600"/>
                <a:tab algn="l" pos="8435880"/>
                <a:tab algn="l" pos="8885160"/>
                <a:tab algn="l" pos="933444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function Start () {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247760"/>
                <a:tab algn="l" pos="1697040"/>
                <a:tab algn="l" pos="2146320"/>
                <a:tab algn="l" pos="2595600"/>
                <a:tab algn="l" pos="3044880"/>
                <a:tab algn="l" pos="3494160"/>
                <a:tab algn="l" pos="3943440"/>
                <a:tab algn="l" pos="4392720"/>
                <a:tab algn="l" pos="4842000"/>
                <a:tab algn="l" pos="5291280"/>
                <a:tab algn="l" pos="5740560"/>
                <a:tab algn="l" pos="6189840"/>
                <a:tab algn="l" pos="6638760"/>
                <a:tab algn="l" pos="7088040"/>
                <a:tab algn="l" pos="7537320"/>
                <a:tab algn="l" pos="7986600"/>
                <a:tab algn="l" pos="8435880"/>
                <a:tab algn="l" pos="8885160"/>
                <a:tab algn="l" pos="933444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DEBUG = MOSTRA DISPARO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247760"/>
                <a:tab algn="l" pos="1697040"/>
                <a:tab algn="l" pos="2146320"/>
                <a:tab algn="l" pos="2595600"/>
                <a:tab algn="l" pos="3044880"/>
                <a:tab algn="l" pos="3494160"/>
                <a:tab algn="l" pos="3943440"/>
                <a:tab algn="l" pos="4392720"/>
                <a:tab algn="l" pos="4842000"/>
                <a:tab algn="l" pos="5291280"/>
                <a:tab algn="l" pos="5740560"/>
                <a:tab algn="l" pos="6189840"/>
                <a:tab algn="l" pos="6638760"/>
                <a:tab algn="l" pos="7088040"/>
                <a:tab algn="l" pos="7537320"/>
                <a:tab algn="l" pos="7986600"/>
                <a:tab algn="l" pos="8435880"/>
                <a:tab algn="l" pos="8885160"/>
                <a:tab algn="l" pos="933444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debug = gameObject.Find("Debug2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247760"/>
                <a:tab algn="l" pos="1697040"/>
                <a:tab algn="l" pos="2146320"/>
                <a:tab algn="l" pos="2595600"/>
                <a:tab algn="l" pos="3044880"/>
                <a:tab algn="l" pos="3494160"/>
                <a:tab algn="l" pos="3943440"/>
                <a:tab algn="l" pos="4392720"/>
                <a:tab algn="l" pos="4842000"/>
                <a:tab algn="l" pos="5291280"/>
                <a:tab algn="l" pos="5740560"/>
                <a:tab algn="l" pos="6189840"/>
                <a:tab algn="l" pos="6638760"/>
                <a:tab algn="l" pos="7088040"/>
                <a:tab algn="l" pos="7537320"/>
                <a:tab algn="l" pos="7986600"/>
                <a:tab algn="l" pos="8435880"/>
                <a:tab algn="l" pos="8885160"/>
                <a:tab algn="l" pos="933444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debug.guiText.text = "BALA DISPARADA";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247760"/>
                <a:tab algn="l" pos="1697040"/>
                <a:tab algn="l" pos="2146320"/>
                <a:tab algn="l" pos="2595600"/>
                <a:tab algn="l" pos="3044880"/>
                <a:tab algn="l" pos="3494160"/>
                <a:tab algn="l" pos="3943440"/>
                <a:tab algn="l" pos="4392720"/>
                <a:tab algn="l" pos="4842000"/>
                <a:tab algn="l" pos="5291280"/>
                <a:tab algn="l" pos="5740560"/>
                <a:tab algn="l" pos="6189840"/>
                <a:tab algn="l" pos="6638760"/>
                <a:tab algn="l" pos="7088040"/>
                <a:tab algn="l" pos="7537320"/>
                <a:tab algn="l" pos="7986600"/>
                <a:tab algn="l" pos="8435880"/>
                <a:tab algn="l" pos="8885160"/>
                <a:tab algn="l" pos="933444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forca inicial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247760"/>
                <a:tab algn="l" pos="1697040"/>
                <a:tab algn="l" pos="2146320"/>
                <a:tab algn="l" pos="2595600"/>
                <a:tab algn="l" pos="3044880"/>
                <a:tab algn="l" pos="3494160"/>
                <a:tab algn="l" pos="3943440"/>
                <a:tab algn="l" pos="4392720"/>
                <a:tab algn="l" pos="4842000"/>
                <a:tab algn="l" pos="5291280"/>
                <a:tab algn="l" pos="5740560"/>
                <a:tab algn="l" pos="6189840"/>
                <a:tab algn="l" pos="6638760"/>
                <a:tab algn="l" pos="7088040"/>
                <a:tab algn="l" pos="7537320"/>
                <a:tab algn="l" pos="7986600"/>
                <a:tab algn="l" pos="8435880"/>
                <a:tab algn="l" pos="8885160"/>
                <a:tab algn="l" pos="933444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etor_forca.x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247760"/>
                <a:tab algn="l" pos="1697040"/>
                <a:tab algn="l" pos="2146320"/>
                <a:tab algn="l" pos="2595600"/>
                <a:tab algn="l" pos="3044880"/>
                <a:tab algn="l" pos="3494160"/>
                <a:tab algn="l" pos="3943440"/>
                <a:tab algn="l" pos="4392720"/>
                <a:tab algn="l" pos="4842000"/>
                <a:tab algn="l" pos="5291280"/>
                <a:tab algn="l" pos="5740560"/>
                <a:tab algn="l" pos="6189840"/>
                <a:tab algn="l" pos="6638760"/>
                <a:tab algn="l" pos="7088040"/>
                <a:tab algn="l" pos="7537320"/>
                <a:tab algn="l" pos="7986600"/>
                <a:tab algn="l" pos="8435880"/>
                <a:tab algn="l" pos="8885160"/>
                <a:tab algn="l" pos="933444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etor_forca.y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247760"/>
                <a:tab algn="l" pos="1697040"/>
                <a:tab algn="l" pos="2146320"/>
                <a:tab algn="l" pos="2595600"/>
                <a:tab algn="l" pos="3044880"/>
                <a:tab algn="l" pos="3494160"/>
                <a:tab algn="l" pos="3943440"/>
                <a:tab algn="l" pos="4392720"/>
                <a:tab algn="l" pos="4842000"/>
                <a:tab algn="l" pos="5291280"/>
                <a:tab algn="l" pos="5740560"/>
                <a:tab algn="l" pos="6189840"/>
                <a:tab algn="l" pos="6638760"/>
                <a:tab algn="l" pos="7088040"/>
                <a:tab algn="l" pos="7537320"/>
                <a:tab algn="l" pos="7986600"/>
                <a:tab algn="l" pos="8435880"/>
                <a:tab algn="l" pos="8885160"/>
                <a:tab algn="l" pos="933444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etor_forca.z = velo_tir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247760"/>
                <a:tab algn="l" pos="1697040"/>
                <a:tab algn="l" pos="2146320"/>
                <a:tab algn="l" pos="2595600"/>
                <a:tab algn="l" pos="3044880"/>
                <a:tab algn="l" pos="3494160"/>
                <a:tab algn="l" pos="3943440"/>
                <a:tab algn="l" pos="4392720"/>
                <a:tab algn="l" pos="4842000"/>
                <a:tab algn="l" pos="5291280"/>
                <a:tab algn="l" pos="5740560"/>
                <a:tab algn="l" pos="6189840"/>
                <a:tab algn="l" pos="6638760"/>
                <a:tab algn="l" pos="7088040"/>
                <a:tab algn="l" pos="7537320"/>
                <a:tab algn="l" pos="7986600"/>
                <a:tab algn="l" pos="8435880"/>
                <a:tab algn="l" pos="8885160"/>
                <a:tab algn="l" pos="933444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converte forca para direc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247760"/>
                <a:tab algn="l" pos="1697040"/>
                <a:tab algn="l" pos="2146320"/>
                <a:tab algn="l" pos="2595600"/>
                <a:tab algn="l" pos="3044880"/>
                <a:tab algn="l" pos="3494160"/>
                <a:tab algn="l" pos="3943440"/>
                <a:tab algn="l" pos="4392720"/>
                <a:tab algn="l" pos="4842000"/>
                <a:tab algn="l" pos="5291280"/>
                <a:tab algn="l" pos="5740560"/>
                <a:tab algn="l" pos="6189840"/>
                <a:tab algn="l" pos="6638760"/>
                <a:tab algn="l" pos="7088040"/>
                <a:tab algn="l" pos="7537320"/>
                <a:tab algn="l" pos="7986600"/>
                <a:tab algn="l" pos="8435880"/>
                <a:tab algn="l" pos="8885160"/>
                <a:tab algn="l" pos="933444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etor_forca = transform.TransformDirection(vetor_forc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247760"/>
                <a:tab algn="l" pos="1697040"/>
                <a:tab algn="l" pos="2146320"/>
                <a:tab algn="l" pos="2595600"/>
                <a:tab algn="l" pos="3044880"/>
                <a:tab algn="l" pos="3494160"/>
                <a:tab algn="l" pos="3943440"/>
                <a:tab algn="l" pos="4392720"/>
                <a:tab algn="l" pos="4842000"/>
                <a:tab algn="l" pos="5291280"/>
                <a:tab algn="l" pos="5740560"/>
                <a:tab algn="l" pos="6189840"/>
                <a:tab algn="l" pos="6638760"/>
                <a:tab algn="l" pos="7088040"/>
                <a:tab algn="l" pos="7537320"/>
                <a:tab algn="l" pos="7986600"/>
                <a:tab algn="l" pos="8435880"/>
                <a:tab algn="l" pos="8885160"/>
                <a:tab algn="l" pos="933444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adiciona forca inicial da bala ( convertida para sua direca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247760"/>
                <a:tab algn="l" pos="1697040"/>
                <a:tab algn="l" pos="2146320"/>
                <a:tab algn="l" pos="2595600"/>
                <a:tab algn="l" pos="3044880"/>
                <a:tab algn="l" pos="3494160"/>
                <a:tab algn="l" pos="3943440"/>
                <a:tab algn="l" pos="4392720"/>
                <a:tab algn="l" pos="4842000"/>
                <a:tab algn="l" pos="5291280"/>
                <a:tab algn="l" pos="5740560"/>
                <a:tab algn="l" pos="6189840"/>
                <a:tab algn="l" pos="6638760"/>
                <a:tab algn="l" pos="7088040"/>
                <a:tab algn="l" pos="7537320"/>
                <a:tab algn="l" pos="7986600"/>
                <a:tab algn="l" pos="8435880"/>
                <a:tab algn="l" pos="8885160"/>
                <a:tab algn="l" pos="933444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rigidbody.AddForce(vetor_forc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247760"/>
                <a:tab algn="l" pos="1697040"/>
                <a:tab algn="l" pos="2146320"/>
                <a:tab algn="l" pos="2595600"/>
                <a:tab algn="l" pos="3044880"/>
                <a:tab algn="l" pos="3494160"/>
                <a:tab algn="l" pos="3943440"/>
                <a:tab algn="l" pos="4392720"/>
                <a:tab algn="l" pos="4842000"/>
                <a:tab algn="l" pos="5291280"/>
                <a:tab algn="l" pos="5740560"/>
                <a:tab algn="l" pos="6189840"/>
                <a:tab algn="l" pos="6638760"/>
                <a:tab algn="l" pos="7088040"/>
                <a:tab algn="l" pos="7537320"/>
                <a:tab algn="l" pos="7986600"/>
                <a:tab algn="l" pos="8435880"/>
                <a:tab algn="l" pos="8885160"/>
                <a:tab algn="l" pos="933444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247760"/>
                <a:tab algn="l" pos="1697040"/>
                <a:tab algn="l" pos="2146320"/>
                <a:tab algn="l" pos="2595600"/>
                <a:tab algn="l" pos="3044880"/>
                <a:tab algn="l" pos="3494160"/>
                <a:tab algn="l" pos="3943440"/>
                <a:tab algn="l" pos="4392720"/>
                <a:tab algn="l" pos="4842000"/>
                <a:tab algn="l" pos="5291280"/>
                <a:tab algn="l" pos="5740560"/>
                <a:tab algn="l" pos="6189840"/>
                <a:tab algn="l" pos="6638760"/>
                <a:tab algn="l" pos="7088040"/>
                <a:tab algn="l" pos="7537320"/>
                <a:tab algn="l" pos="7986600"/>
                <a:tab algn="l" pos="8435880"/>
                <a:tab algn="l" pos="8885160"/>
                <a:tab algn="l" pos="933444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247760"/>
                <a:tab algn="l" pos="1697040"/>
                <a:tab algn="l" pos="2146320"/>
                <a:tab algn="l" pos="2595600"/>
                <a:tab algn="l" pos="3044880"/>
                <a:tab algn="l" pos="3494160"/>
                <a:tab algn="l" pos="3943440"/>
                <a:tab algn="l" pos="4392720"/>
                <a:tab algn="l" pos="4842000"/>
                <a:tab algn="l" pos="5291280"/>
                <a:tab algn="l" pos="5740560"/>
                <a:tab algn="l" pos="6189840"/>
                <a:tab algn="l" pos="6638760"/>
                <a:tab algn="l" pos="7088040"/>
                <a:tab algn="l" pos="7537320"/>
                <a:tab algn="l" pos="7986600"/>
                <a:tab algn="l" pos="8435880"/>
                <a:tab algn="l" pos="8885160"/>
                <a:tab algn="l" pos="933444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143000"/>
                <a:tab algn="l" pos="1247760"/>
                <a:tab algn="l" pos="1697040"/>
                <a:tab algn="l" pos="2146320"/>
                <a:tab algn="l" pos="2595600"/>
                <a:tab algn="l" pos="3044880"/>
                <a:tab algn="l" pos="3494160"/>
                <a:tab algn="l" pos="3943440"/>
                <a:tab algn="l" pos="4392720"/>
                <a:tab algn="l" pos="4842000"/>
                <a:tab algn="l" pos="5291280"/>
                <a:tab algn="l" pos="5740560"/>
                <a:tab algn="l" pos="6189840"/>
                <a:tab algn="l" pos="6638760"/>
                <a:tab algn="l" pos="7088040"/>
                <a:tab algn="l" pos="7537320"/>
                <a:tab algn="l" pos="7986600"/>
                <a:tab algn="l" pos="8435880"/>
                <a:tab algn="l" pos="8885160"/>
                <a:tab algn="l" pos="933444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143000"/>
                <a:tab algn="l" pos="1247760"/>
                <a:tab algn="l" pos="1697040"/>
                <a:tab algn="l" pos="2146320"/>
                <a:tab algn="l" pos="2595600"/>
                <a:tab algn="l" pos="3044880"/>
                <a:tab algn="l" pos="3494160"/>
                <a:tab algn="l" pos="3943440"/>
                <a:tab algn="l" pos="4392720"/>
                <a:tab algn="l" pos="4842000"/>
                <a:tab algn="l" pos="5291280"/>
                <a:tab algn="l" pos="5740560"/>
                <a:tab algn="l" pos="6189840"/>
                <a:tab algn="l" pos="6638760"/>
                <a:tab algn="l" pos="7088040"/>
                <a:tab algn="l" pos="7537320"/>
                <a:tab algn="l" pos="7986600"/>
                <a:tab algn="l" pos="8435880"/>
                <a:tab algn="l" pos="8885160"/>
                <a:tab algn="l" pos="933444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143000"/>
                <a:tab algn="l" pos="1247760"/>
                <a:tab algn="l" pos="1697040"/>
                <a:tab algn="l" pos="2146320"/>
                <a:tab algn="l" pos="2595600"/>
                <a:tab algn="l" pos="3044880"/>
                <a:tab algn="l" pos="3494160"/>
                <a:tab algn="l" pos="3943440"/>
                <a:tab algn="l" pos="4392720"/>
                <a:tab algn="l" pos="4842000"/>
                <a:tab algn="l" pos="5291280"/>
                <a:tab algn="l" pos="5740560"/>
                <a:tab algn="l" pos="6189840"/>
                <a:tab algn="l" pos="6638760"/>
                <a:tab algn="l" pos="7088040"/>
                <a:tab algn="l" pos="7537320"/>
                <a:tab algn="l" pos="7986600"/>
                <a:tab algn="l" pos="8435880"/>
                <a:tab algn="l" pos="8885160"/>
                <a:tab algn="l" pos="933444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47280" y="1484280"/>
            <a:ext cx="30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tart = inicializa velo b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72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Update = usando Física = FixedUpdat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uidar da remoção da bala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or t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or distâ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fisica = fixed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function FixedUpdate () {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distancia em relação ao player – localizar p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layer = GameObject.Find("Player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ar distancia = Vector3.Distance(transform.position,player.transform.positi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(distancia &gt; 10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Destroy(gameObjec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65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erceber / Controlar Colisão da B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igidBody = OnCollision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// Perceber tratar colis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unction OnCollisionEnter(quem : Collision) {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//DEBUG = MOSTRA COLSIAO /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ebug = gameObject.Find("Debug2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ebug.guiText.text = "BALA COLIDIU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//auto destroi na colis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estroy(gameObjec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isparo Balas : código em quem vai dispa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-utilização objeto bala = Instantiate / Pref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ar nossa bala em Pref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riar novo prefab -&gt; Inserir objeto bala no pref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stantiate -&gt; utiliza Pref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 Tecla ativa t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f (Input.GetButton("Fire1"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tira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trolando disparo com fun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unção disparo / At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Variavel ponteiro para bala (prefa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bala : Transform;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unction Atira() {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CRIA BALA POSICAO E ROTACAO DE QUEM DIS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nstantiate(bala, transform.position, transform.rotation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9:54:45Z</dcterms:created>
  <dc:creator>A.B.</dc:creator>
  <dc:description/>
  <dc:language>en-US</dc:language>
  <cp:lastModifiedBy>A.B.</cp:lastModifiedBy>
  <dcterms:modified xsi:type="dcterms:W3CDTF">2010-06-16T22:11:24Z</dcterms:modified>
  <cp:revision>113</cp:revision>
  <dc:subject/>
  <dc:title>Projeto de jogos: Ferramentas de desenvolvimento rápido </dc:title>
</cp:coreProperties>
</file>