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6076-489B-4B3A-8DD5-07A5E929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F93-3385-477E-9D13-09EDF0E8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78DA-F2AF-484B-AD0A-9F6BA50D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54A-70F1-4DA8-A0A2-FCEA587C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85A-D7A9-4506-91CC-9654FB50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87BD-3C7C-4EDE-AE4F-E39C2B9D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57A-01C4-4FB8-8862-EC01EEC1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CEEC-0EA9-4802-8F1C-0E98713FC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8228-8ED1-490E-90FE-040B5101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EFC-4C56-4014-B94B-0B015868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31A4-3EF1-4E0A-BE7B-B4352003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7EA-3E47-4EC8-99A3-6F076E3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D59640-CEE9-4F24-9CAA-E5C28407B818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 de jogos RAD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Classe GUI: Menus e Interfa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413000"/>
            <a:ext cx="4465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riamos uma nova GUISkin para criarmos nosso “design” de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sets -&gt; Create -&gt; GUISk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87280" y="3357720"/>
            <a:ext cx="3097440" cy="1804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03640" y="1197000"/>
            <a:ext cx="3930840" cy="49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r código, declaramos as GUISkins e determinamos qual Skin deve ser usada antes de criar os elementos 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r Skin1 : GUISki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r Skin2 : GUISkin;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//defino via Inspector as Sk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unction OnGUI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UI.skin = Skin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UI.Label(Rect (0, 0, 400,200),“Texto com Skin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UI.skin = Skin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UI.Label(Rect (0, 20, 400,200),“Texto com Skin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lasse GUI todos recursos para interfaces de tela (de forma facilitad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ox (caixas de men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nus (botõ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abels (textos simp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Field (entrada de tex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rawTexture (apresentação de ima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nderização GUI – evento pos render do mundo virtual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lementos GUI colocados sobre (a frente) dos elementos de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ODOS objetos podem referenciar a classe GUI e compor / exibir elementos de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unction OnGUI 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OX – Caixas de menus, caixas para diálogos do j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ção e dimensão: Rect(x,y,sizex,siz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o, título da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unction OnGUI 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UI.Box(Rect (0, 0, 400,200),“Título"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ABEL – texto simples para exibição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arâme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ção e dimensão: Rect(x,y,sizex,siz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amanho é respeitado pelo texto, sendo quebrado (automaticamente) dentro 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o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numero = 1.3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ar texto1 = “Variável Str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OnGUI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UI.Label(Rect (0, 0, 400,200),“Qualquer texto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permite uso de variáveis string + numé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UI.Label(Rect (0, 20, 400,200), texto1 + numero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BUTTON – Botõ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ção e dimensão: Rect(x,y,sizex,siz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xto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ódigo botão usado para exibição e avaliação do click / uso ao mesmo 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unction OnGUI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f (GUI.Button( Rect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(10, 10, 100,20),“Texto Botão“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// se botão pressionado = códi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EXTFIELD : caixa para entrada de tex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ção e dimensão: Rect(x,y,sizex,siz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String (variável) para entrada /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úmero máximo de caracte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r nome = 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unction OnGUI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GUI.Label(Rect (0, 0, 400,200),“Digite seu nome: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nome = GUI.TextField (Rect (0, 20, 100, 30), nome, 2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// TextField – retorna valor para variável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RAWTEXTURE: exibir imagens (BMPs) na t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â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sição e dimensão: Rect(x,y,sizex,size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magem (Texture2D) para exib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ar imagem_menu : Texture2D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declara BMP – seta via Insp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unction OnGUI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zex = imagem_menu.width;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possível pegar dimensões da imag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zey = imagem_menu.heigh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UI.DrawTexture(Rect(posx,posy,sizex,sizey), imagem_menu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413000"/>
            <a:ext cx="784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lementos apresentados permitem construção dos menus que precis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lasse GUI mais completa, checar documentação (manual) para controles ext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oggle, TextArea, VerticalSlider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UI permite customização por meio de GUISk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UISkin: definição geral de estilo do menu, incluindo fontes, imagens, cores, etc, definíveis por element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11-24T16:48:50Z</dcterms:modified>
  <cp:revision>77</cp:revision>
  <dc:subject/>
  <dc:title>Projeto de jogos: Ferramentas de desenvolvimento rápido </dc:title>
</cp:coreProperties>
</file>