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630-2E5B-4826-9A56-759E3E8C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B02-FEFD-4CAD-BAC9-0DBE05DB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F81A-2FCB-43F7-9E09-7A79CF9A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009-82F5-45E1-9B72-911364E5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7B6-FC11-404D-B65B-314934C5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99F6-8539-409F-A3A0-0AC3756D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145-338D-4854-BDD4-4FE2EAD4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DD7-AB9F-44C0-B843-7D181D08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FC40-B67B-473F-9339-57E46597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FB9-C1C3-4623-A172-FB5FCD91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720-1BF0-4D05-ACFD-A0E67260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8C9C-9422-4387-B58E-B9956A05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B27B23-E78B-49E8-9D13-D7EB722B1D7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 de jogos RAD: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Inteligência Artificial 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t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1484280"/>
            <a:ext cx="82296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484280"/>
            <a:ext cx="7848720" cy="424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1557360"/>
            <a:ext cx="100800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trul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71640" y="1700280"/>
            <a:ext cx="100836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trul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80000" y="4581360"/>
            <a:ext cx="1008000" cy="93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aqu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2781360"/>
            <a:ext cx="100800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nt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2852640"/>
            <a:ext cx="1008000" cy="93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se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2924280"/>
            <a:ext cx="100800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nt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979280" y="2565360"/>
            <a:ext cx="86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328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33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0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170028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0072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60320" y="162864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plodindo Bolh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talh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2852640"/>
            <a:ext cx="1008000" cy="93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se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4072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403280" y="429264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403280" y="37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484280"/>
            <a:ext cx="82296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Patrulhar detalhado = 4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Estados definíveis: 10, 11, 12, 13 = Patrul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Criar /Planejar regras de mudança de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O que leva de um estado a out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Ir ponto1: checar distancia para o p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Espera / Observa: timer simples (tem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Inicia Ataque: player próximo inimigo (dist. 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484280"/>
            <a:ext cx="82296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Plano determinado = implementar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Variáveis iniciais identific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estado =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distancia_ok = 1.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distancia_atual = 0.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ponto1 : Vector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ponto2 : Vector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velocidade : Vector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tempo = 0.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2296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Estado 10 : Ir ponto 1, perceber a chegada (dista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if (estado == 1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// virar / apontar para o p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transform.LookAt(ponto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transform.rotation.x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transform.rotation.z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// mover / andar = velocidade frente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velocidade.x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velocidade.y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velocidade.z = 0.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//Mudança de estado = distancia / chegou no ponto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distancia_atual = Vector3.Distance(transform.position, ponto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if (distancia_atual &lt;= distancia_ok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estado = 1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484280"/>
            <a:ext cx="82296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Centralizamos código de movimento: controle apenas por velocidade nos estados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transforma velocidade para direção a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elocidade = transform.TransformDirection(velocidad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Movimento unificado : controla velocidade nos estados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inter = GetComponent(CharacterControll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inter.Move(velocidade)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1484280"/>
            <a:ext cx="82296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Estado 11: aguarda tempo / observa, pa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f (estado == 11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// parar =  sem velo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elocidade.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elocidade.y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elocidade.z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// Timer bá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empo += Time.deltaTi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f (tempo &gt;= 1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stado = 1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484280"/>
            <a:ext cx="82296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Start: inicialização básica, estado, pontos - dest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function Start() {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estado in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stado =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ponto 1: ex. posicao atual + vari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nto1 = transform.position;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nto1.z += 2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 ponto2: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nto2 = transform.position;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nto2.z -=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Criar estados 12 e 13 = Finalizar Patrulha Bá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484280"/>
            <a:ext cx="82296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Ataque básico: percebe player perto = dist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(modo simplór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Entra em estado de ata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Regras adicionais atac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Persegue player (anda na sua dire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Distância mínima = tira saúde ( faz ataq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Distância máxima = fugiu, volta a patrul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1341360"/>
            <a:ext cx="82296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Implementando ata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ar distancia_player = 0.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ar distancia_ataca = 1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ar distancia_hit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ar distancia_fugiu = 30; 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/Encontra player - multi us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yer = GameObject.Find("Player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Ativa ATAQUE  AUTO - POR DI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(estado &gt;= 10 &amp;&amp; estado &lt;= 13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distancia_player = Vector3.Distance(transform.position,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layer.transform.position);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(distancia_player &lt;= distancia_ataca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stado = 2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484280"/>
            <a:ext cx="82296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20. ATAQUE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(estado == 2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 virar / apontar para o p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transform.LookAt(player.transform.positi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transform.rotation.x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transform.rotation.z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 mover / andar = velocidade frente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elocidade.x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elocidade.y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elocidade.z = 0.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A: Simular comportamento inteligente em elementos autômatos no j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lanejamento bás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que o “robô” deve faz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raduzir em es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parar ações individuais / dife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r mapa de est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484280"/>
            <a:ext cx="856944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Implementando regras adicionais do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20. ATAQUE – PERSEGUE PLAYER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(estado == 2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distancia_player = Vector3.Distance(transform.position,player.transform.position);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Distancia fugiu = volta a patrulha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(distancia_player &gt;= distancia_fugi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stado =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1484280"/>
            <a:ext cx="856944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Implementando regras adicionais (2) do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20. ATAQUE  – PERSEGUE PLAYER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(estado == 2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distancia_player = Vector3.Distance(transform.position,player.transform.position);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Distancia hit = estado ataque real – tira energia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(distancia_player &lt;= distancia_hi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stado = 2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484280"/>
            <a:ext cx="856944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21. ATAQUE - REAL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(estado == 2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 para de an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elocidade = Vector3.ze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anima - (simula anima - FAZ GIRO BASI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ux_gira += 1 * Time.deltaTi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transform.Rotate(Vector3(0, 3, 0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(aux_gira &gt;= 1) {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stado = 10; }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 volta patulha t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Criando efeito no player - acessa script dele, muda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empurra trás, cima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- única vez, uso var para cont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(ataque_unico =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layer.GetComponent("Player-anima").forca_move.y = 0.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layer.GetComponent("Player-anima").forca_move.z = -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taque_unico =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lementos com IA = máquina de es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st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tes do comport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ferentes 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ratados com códigos (partes) separ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trolar estados por variável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r regras para mudança de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sumi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o passo: planejar o comportamento desej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2o passo: identificar estados – separar ações diferentes (partes do comportam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3o passo: identificar mudança de estados – o que faz o robô mudar de um estado a ou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gramar regras – testar - adap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413000"/>
            <a:ext cx="8353440" cy="45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637000"/>
            <a:ext cx="100800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trul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5280" y="3429000"/>
            <a:ext cx="100800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ê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1280" y="2563920"/>
            <a:ext cx="100800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4797360"/>
            <a:ext cx="1008360" cy="93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263700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335592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3274560" y="357156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490920" y="4292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635280" y="436356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714920" y="328464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788000" y="3429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422100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6920" y="4508640"/>
            <a:ext cx="1152720" cy="1081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4579920"/>
            <a:ext cx="100800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1771560"/>
            <a:ext cx="1152720" cy="1081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98560" y="1844640"/>
            <a:ext cx="100800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icial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70160" y="17002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são Geral 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484280"/>
            <a:ext cx="7848360" cy="424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1557360"/>
            <a:ext cx="100800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1700280"/>
            <a:ext cx="100836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32000" y="2997360"/>
            <a:ext cx="100836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aqu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9640" y="3789360"/>
            <a:ext cx="100800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2060640"/>
            <a:ext cx="100836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aqu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27640" y="2565360"/>
            <a:ext cx="100836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bai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4076640"/>
            <a:ext cx="100800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2708280"/>
            <a:ext cx="72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220500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270828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866920" y="3500280"/>
            <a:ext cx="505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131640" y="400536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4508640"/>
            <a:ext cx="1584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170028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4869000"/>
            <a:ext cx="1081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60320" y="162864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plodindo Bolh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talh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1484280"/>
            <a:ext cx="7993080" cy="44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2421000"/>
            <a:ext cx="100800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trul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0920" y="3213000"/>
            <a:ext cx="1008360" cy="93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ê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313992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690200" y="335556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3800" y="270828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tancia &lt;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8520" y="357336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ta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1844640"/>
            <a:ext cx="100800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3716280"/>
            <a:ext cx="100800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aqu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7080" y="3716280"/>
            <a:ext cx="100800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aqu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435280" y="2781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59640" y="2781360"/>
            <a:ext cx="360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95600" y="263700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and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3240" y="285264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and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1628640"/>
            <a:ext cx="49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talhando: Regras para mudança de 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484280"/>
            <a:ext cx="82296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hecendo-se os estados e planejando-se as regras para mudanças de estado inicia-se a program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Traduzir o plano para códi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Estados = controle por variá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estado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estado == 1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1484280"/>
            <a:ext cx="82296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Criar Cubo “inimig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Criar Script Inimigo1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Inimigo precisa cuidar de suas colisões, chão /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Definir e adicionar Collid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RigidBody ou CharacterControl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Tipo collider = códigos específicos de mo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Nosso exemplo : CharacterController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10-06-07T22:03:40Z</dcterms:modified>
  <cp:revision>111</cp:revision>
  <dc:subject/>
  <dc:title>Projeto de jogos: Ferramentas de desenvolvimento rápido </dc:title>
</cp:coreProperties>
</file>