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BFD-6704-4EED-98DC-49E0FB20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77D-499E-4F0E-BE52-6571D0BA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EC0-83A4-43D6-8FCB-E9DF5C1D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5A9-4CB6-4961-92D6-1B26D3F8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6B6-53D5-4E39-B8C7-62B3BAE0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0DD-763B-494A-ADA6-47616B08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D94-9B35-4D08-B34C-F130716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072-AD67-4CA1-B15E-80979964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A8F-0EE0-4FA2-82BA-569C34F9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B84-E6E3-471B-9CE2-FD38AC9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4E6-6FD7-47B8-9F1D-250FD05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37A-1264-48C7-9BA3-995E7F4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5C5CD1-FE91-4588-874C-60B6F8DA1FF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Inteligência Artificial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art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ndo modelos animados com 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esquema geral 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cessidade de código = controle a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regras para ani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utomát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aseadas em estados, velocida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ecisam ser auto-controladas = 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Podemos substituir nosso “cubo inimigo” por um modelo ani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r modelo Soldier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r animações: walk, id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ortar e re-colocar tex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serir collder (CharacterControl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serir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= funcionalidade básica (igual ao cu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s para ativar anim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: regra básica por 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 CONTROLE DE ANIM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(Mathf.Abs(velocidade.z)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imation.CrossFade("walk");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lse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imation.CrossFade("idl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* animation["Walk"].wrapMode = WrapMode.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tra forma de controle: animações por estados ( var anim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var animacao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estado == 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nimacao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//controle unificado de anim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animacao == 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imation.CrossFade("idl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if (animacao == 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imation.CrossFade(“walk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ecessidade de criação de regras que funcionem de forma automática =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ras diferentes por comportamento esperado / por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cas (exemplo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as em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ventos podem iniciar estado = inicia ani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as em forças e velo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ças = animações condizentes com movimento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 : 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-utilização = Pref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cilidade de duplic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mantendo elementos e códigos, modelo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mite Instâncias em temp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ma cor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r novo Pref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uxar modelo desenvolvido para o pref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de se colocar em cena várias cóp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pode se criá-las em tempo real: Instanti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6-09T21:19:53Z</dcterms:modified>
  <cp:revision>116</cp:revision>
  <dc:subject/>
  <dc:title>Projeto de jogos: Ferramentas de desenvolvimento rápido </dc:title>
</cp:coreProperties>
</file>