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869-21F8-4953-87DE-6F5D2723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9F0-FA99-459C-BAAD-A068AFC4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AB5-4085-4F09-8DBC-B9AE9E67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28A-C9BC-445F-B751-237989CF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B26-F62F-43C5-A99E-444D881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06E-512A-4C19-A80C-7F2998B2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8D3-F178-43C2-9DA5-FEBD8402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8E9-24BF-4BAD-B370-080E4FE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B8B-7C4E-43AD-AC16-D5FB3C4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D08-D9A4-4FA0-89C0-438C9DB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24F-E162-4498-8238-BD12085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8C9-E455-4C62-9B20-EEE016F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93A5DD-10D0-4877-B94F-9F2FC20C2E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I Texture e Men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ar mesmo script para componentes do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ecar nome / definir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OnMouseDow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(gameObject.name == "botao1"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pplication.LoadLevel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(gameObject.name == "botao2"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pplication.LoadLevel 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UITexture: imagens 2D renderizadas diretamente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UD: elementos de interface 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ens: load, logos, cut-sce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tões / menus (2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UITextu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r imagem 2D (B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GUITe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priedad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cionamento /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 (adicional / t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ixelInSet (retang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cao e tamanho em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rdas: protege bordas de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45420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ar BMAP para tamanho da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ss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creen.width / Screen.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ão: Pivot = centro d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Start () {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size_x = Screen.wid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size_y = Screen.h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pos_x = -size_x /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pos_y = -size_y /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Texture.pixelInset = Rect (pos_x, pos_y, size_x, size_y);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efeito Tint / transparência no B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onente de Cor (0..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or.a = alpha / transpa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cor = 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(cor &lt; 0.5) {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r += 0.1 * Time.deltaTime;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Texture.color.r = c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Texture.color.g = c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Texture.color.b = c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movimento nos b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lo retângulo ( guiTexture.pixelIns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lo transform.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(cor &lt; 0.5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ransform.position.y += 0.1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ndo BMAPS como bot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ventos do mouse (Functions / Me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Mouse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Mouse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Mouse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MouseExi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 / Inserir script com código especifico para as cham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ction OnMouseDown 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pplication.LoadLevel 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ction OnMouseOver () {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r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g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b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ction OnMouseExit () {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r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g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Texture.color.b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Z define ordem de renderiz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qual mais a f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977080" cy="301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12T22:23:24Z</dcterms:modified>
  <cp:revision>70</cp:revision>
  <dc:subject/>
  <dc:title>Projeto de jogos: Ferramentas de desenvolvimento rápido </dc:title>
</cp:coreProperties>
</file>