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BB3-57F1-42F8-9266-D0D93FBD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05D-E95F-4846-AB99-12EFAFF5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75DF-4C08-4A34-A985-09AABF97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417-6FDA-47E6-AA6C-D1814B6A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B5E-1995-42D9-9807-F716C8B2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9F4B-321A-44B6-81EA-8B8E2C9A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D29-501F-4502-9948-859784B31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EE0-7275-46E6-A06F-DD9C4F6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2D8-1206-4569-9252-2BF0D784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287-0FCC-4342-BF81-E4D69599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DEE-8E0B-4A07-89D3-9BC71AD6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661-E2A4-490B-959E-46C02A3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CA91EC-0281-4F87-8F98-84D9467D27D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: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Utilização Modelos Si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mportar BMAPS em sepa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-aplicar BMAPS nos mate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elo = material cor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549360"/>
            <a:ext cx="2590920" cy="558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059280" y="3141720"/>
            <a:ext cx="2754000" cy="29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ção modelos no game =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o qualquer objeto (primiti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serir colliders man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plicar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priedades Trans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a posição e ro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mandos move (de acordo com o collider us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 geral criar um PREFAB para agrupar o modelo + scripts + collider +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ção de modelos = programa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X, MAYA, BLENDER, CINEMA 4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portação FBX (bom caminh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riar materiais quando necess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rganização materiais e bmaps: na cria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fission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quipe arte = cria modelos + ani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utsource = equipe externa para criação de a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cotes prontos = compra-se modelos pr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trabalhos (aul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delos gratuitos na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riar modelos próprios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urbo Squ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delos Free e P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uitas outras f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489744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quivos de Modelos nos principais form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X, MAYA, FBX, C4D, OBJ, 3DS, Bl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MAX = 3D Max instalado n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.MB, .MA = Maya instalado no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BX = exportado dos principais pro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ortação é Dir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versão automática quando carrega o as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pende formato = precisa do programa no sistema (3D 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orta todos elementos do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+ Mapeamento tex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+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+ Animaçõe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ortando Mode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ssets-&gt;Import New Asse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: rabbids_models.fb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terminar fator de escala na impor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eferencialmente usar modelos na escala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3095640" cy="39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: composto por ‘n’ objetos, mexes e grupos = como foi cri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762200" y="2571840"/>
            <a:ext cx="597852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ndo no jogo = drag to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pois inserir componentes  (como qualquer outro objet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li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udio Source, 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952800" cy="23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lliders (character controll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justar tamanhos, e posição da col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6000" y="2635200"/>
            <a:ext cx="655308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mportando modelos com materiais e tex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erial automaticamente cri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lder: \Material\Nome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nta importar Bmaps texturas a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sível importar os BMAPS em sepa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olocar os BMAPS nos devidos mater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assume material corret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0244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: Virus.FBX + Bmaps tex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ateriais criados automat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rém BMAPS não encont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= Material / visual incor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19280" y="3645000"/>
            <a:ext cx="3960720" cy="243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12000" y="3068640"/>
            <a:ext cx="2485800" cy="306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4-26T21:05:57Z</dcterms:modified>
  <cp:revision>69</cp:revision>
  <dc:subject/>
  <dc:title>Projeto de jogos: Ferramentas de desenvolvimento rápido </dc:title>
</cp:coreProperties>
</file>