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0A2-766D-4229-87C8-23BE775F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5D9-CC8E-4C39-85AB-57A930BE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9D2-4BEE-4C41-B308-194971F5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965-0D46-4F5C-A091-EA62B45D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A4A-9201-470E-B83F-956101B0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ACB-C662-410F-9354-AABAF73D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D72-4F63-48FE-87AA-56E0612D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7C8-9088-4DB8-A198-E897AFFB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1EF-5446-4EAF-8669-400E8623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7B0-2AD4-42AF-9645-82C444B0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797-36F3-4113-B889-C9F5608E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168-F6A5-4D37-97C4-F466E1A0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04E8D8-C74A-42DD-AC9A-E4D3842E5E7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4100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itter: M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 partículas seguindo o mesh do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ior controle  complex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pções adiciona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terpolate Triangles: geradas entre faces, senão somente dos vértices do m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ystematic: na ordem dos vértices n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6000" y="1773360"/>
            <a:ext cx="315900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itter sem Renderer = não funci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nderer = gera / apresenta partículas n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nderer = propriedades visualização partí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nder - Definição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terial das partículas (Textura / ima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: Fire Ad (Standard Ass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796000" y="4221000"/>
            <a:ext cx="287964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terial = textura usada (em cada partícu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m. Vel. Scale: quanto da velocidade da câmera é passada para Stretch da partí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ticada : efeito tipo faís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binado com modo Str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41920" y="1700280"/>
            <a:ext cx="3502080" cy="36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tretch: modo de exib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illboard: virado para câm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tretch: orientados pela direção do movimento (escala na dire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orted Billboards: ordenadas por profundidade (blen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641920" y="1700280"/>
            <a:ext cx="3502080" cy="36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ertical Billboard: alinhados em X/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Horizontal Billboard: alinhados em X/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enght Scale: se Stretch, determina quanto estic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elocity Scale: se Stretch, quanto esticam de acordo com sua velo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641920" y="1700280"/>
            <a:ext cx="3502080" cy="36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V Animation: Efeito animado (quad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ários quadros em um B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material com B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r (Particle Render: UV Ani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 Tile : quadros em X (presentes no b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Y Tile : quadros em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ycles : velocidade da anim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58920" y="5229360"/>
            <a:ext cx="6504120" cy="81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ipo material (shader)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tículas - ge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X - Flar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eto = transpa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1280" y="4221000"/>
            <a:ext cx="4319640" cy="5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241800" cy="45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ticle Anim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 movimento, comportamento das parti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danças de cor, simulação vento (move adicional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45096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te Co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ia entre cores definidas ao longo da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ção de ALPHA nas cores = transpa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deal = últimas e primeiras cores mais transparentes = melhor integração, desapare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45096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te Co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PH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anspa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icl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80000" y="1628640"/>
            <a:ext cx="504000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os especiais para ef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jetos resumidos = propriedades dife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nderização dif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entenas / milhares de partículas por F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= Performance (necessid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s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umaça, faíscas, água, spray, sangue, rastros, fog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4995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ORLD / LOCAL Rotation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otação adicional a partíc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ixo sobre qual ela r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ze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Quanto a partícula pode crescer no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nd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orça adicional random para partí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4995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orça definida para partículas (m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: forca Y = sob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Quanto diminuem a força por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 = sem damping,  de 0..1 = menor mais dimin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uto Destr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tículas removidas no final da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499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rail Rende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feito de trajet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astro do per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mpo de du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amanho inicial /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res (anima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924360" cy="325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580000" y="4941720"/>
            <a:ext cx="2232000" cy="10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9672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ticles Coll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tículas colidem com objetos /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ndam mensagem específica na coli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batem (Bou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dem energia (Lo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r com cuid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isões: Requer Processamen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403236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8483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tículas via Script , e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"p"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particleEmitter.emit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articleEmitter.emit = 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se  {  particleEmitter.emit = true;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"o")) {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tComponent("ParticleAnimator").sizeGrow +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tículas: objetos “mais lev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m componentes normais (não obje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eito para exibir e desaparecer rapidamente - Lifetime 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nimações ou efeitos si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 velocidade e dir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stema de partículas, três compon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ticle Em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nte, como / onde são emit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ticle Annim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ção das partículas compor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ticle Rende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nderizador / mostrar partí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tíc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sencialmente imagens 2D renderizadas no mundo 3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agem simples 2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qüência = Ani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3581280" cy="28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dicionar Partíc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ecessita os 3 componentes: emitter, animator e rende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m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llips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19640" y="3284640"/>
            <a:ext cx="351792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mitter : Ellips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tículas geradas dentro da esfera (á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amanho regul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pções de emissão = Em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amanho partí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elocidades ini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ant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reção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287964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67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in/Max Size: tamanho inicial das partí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in/Max Energy: lifetime, tempo que vivem (desaparec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in/Max Emission: quantidade de partículas emiti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World / Local / Rnd : velocidades iniciais das partícu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itter Vel Scale: recebe velocidade do emitter dire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818320" y="692280"/>
            <a:ext cx="332568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67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ngent Vel: velocidade inicial em relação a superfície do e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mulate in Worl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m = ficam no mundo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ão = movem-se junto ao em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ne Shoot : única vez (emiss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llipsoid : tam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in Emitter Range: espaço no interior que não são criadas partícu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18320" y="692280"/>
            <a:ext cx="3325680" cy="526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5-10T21:43:33Z</dcterms:modified>
  <cp:revision>103</cp:revision>
  <dc:subject/>
  <dc:title>Projeto de jogos: Ferramentas de desenvolvimento rápido </dc:title>
</cp:coreProperties>
</file>