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B81A1-88FD-4EC2-9E61-990D5852C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784EE-A659-4B58-9F1E-61215B0B9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734C6-FA4D-473F-8A82-DCEA0D5B8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82627-5BE7-47F6-AFA3-9481AB3FC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3AB2C-3B61-4331-BA6F-225AB9591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61FDD-8538-4DAC-9698-CBE7D5958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8B015-23AF-4EFE-8889-7A2DD02BD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48285-3D25-4B25-8139-625931168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16B55-D813-4641-B6BD-9247BEA61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F84A4-80F4-45CF-A476-60CF95786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AD37A-A5E1-45AA-994F-B7984845A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9FA75-DC26-4885-9485-5E20DA4B1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64C761A-39D6-4D8C-A945-6E33C7800725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rojeto de jogos RAD:</a:t>
            </a:r>
            <a:br>
              <a:rPr sz="4000"/>
            </a:b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ky, Ambient e Fog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Augusto Bü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Unity3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55400"/>
            <a:ext cx="7715160" cy="62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Criando um Material S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Criar novo mate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Definir Shad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Render FX -&gt;Sky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Template para textur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Cubo = 6 textur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Importar Bma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Aplic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5435640" y="1197000"/>
            <a:ext cx="3362400" cy="475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Unity3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55400"/>
            <a:ext cx="7715160" cy="62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Aplicar BMA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Definir Material SKY no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Edit-&gt; Render Sett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5867280" y="1268280"/>
            <a:ext cx="2979720" cy="43722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684360" y="2997360"/>
            <a:ext cx="4968720" cy="2776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Unity3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355400"/>
            <a:ext cx="7715160" cy="62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Texturas Skybox = altamente preparad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Lados / cima / baix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Encaixe perfei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Criação por programas auxilia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Fotomontagens / panorâm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Texturas Skybox na rede, ex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http://www.3delyvisions.com/skf1.h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Unity3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355400"/>
            <a:ext cx="8229600" cy="62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SKY / Background Colo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Renderizado nos espaços não cobertos por outros modelos e obje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SKY : diversas técnic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Sky Sphere (Dom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Esfera texturizada internamente em volta do player ou de toda ce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Sky Cu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Cubo texturizado em cada uma das seis fa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Visual próprio para cada direção (frente, baixo..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Unity3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6840" y="1355400"/>
            <a:ext cx="4762440" cy="62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Background Col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Definido na câme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Pode ser mudado em tempo re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Opção mais simples (veloz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788000" y="1557360"/>
            <a:ext cx="4176720" cy="425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Unity3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355400"/>
            <a:ext cx="7715160" cy="62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Mudando a cor do Backgr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//mudando cor background came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var cam = GameObject.Find("Camera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cam.camera.backgroundColor.r += 1 * Time.deltaTim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cam.camera.backgroundColor.g += 1 * Time.deltaTim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cam.camera.backgroundColor.b += 1 * Time.deltaTim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if (cam.camera.backgroundColor.r &gt;= 1) {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cam.camera.backgroundColor.r = 0;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cam.camera.backgroundColor.g = 0;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cam.camera.backgroundColor.b = 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Unity3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55400"/>
            <a:ext cx="7715160" cy="62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Componentes de c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R = 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G = gre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B = bl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A = alpha ( transparenci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Normal componentes de cor 0..25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Unity: 0..1 (porcentagem do tot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Unity3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55400"/>
            <a:ext cx="7715160" cy="62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Utilizando SKY ( Bmap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Edit -&gt; Render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Sky Mater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Pronto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Blue Sky / Sun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spcBef>
                <a:spcPts val="700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716360" y="2781360"/>
            <a:ext cx="3996000" cy="3025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Unity3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355400"/>
            <a:ext cx="7715160" cy="62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Render Settings: controles adiciona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Ambient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Luz ambient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Adicionada a tu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Coloraç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Nivel de brilho ge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788000" y="2276640"/>
            <a:ext cx="3995640" cy="302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Unity3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55400"/>
            <a:ext cx="7715160" cy="62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FOG = ligado ou n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Cor Fo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Densid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Quanto cobre da ce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FO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Em relação a posição da câme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Simulação de nevo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Simulação de penumb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Simulação de águ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spcBef>
                <a:spcPts val="700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5435640" y="1413000"/>
            <a:ext cx="3240000" cy="245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Unity3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55400"/>
            <a:ext cx="7715160" cy="62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FOG + Background : mudança to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68360" y="2852640"/>
            <a:ext cx="2178000" cy="27432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979640" y="2133720"/>
            <a:ext cx="3313080" cy="25938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5076720" y="2997360"/>
            <a:ext cx="3382920" cy="28224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19:54:45Z</dcterms:created>
  <dc:creator>A.B.</dc:creator>
  <dc:description/>
  <dc:language>en-US</dc:language>
  <cp:lastModifiedBy>A.B.</cp:lastModifiedBy>
  <dcterms:modified xsi:type="dcterms:W3CDTF">2010-04-26T22:04:32Z</dcterms:modified>
  <cp:revision>73</cp:revision>
  <dc:subject/>
  <dc:title>Projeto de jogos: Ferramentas de desenvolvimento rápido </dc:title>
</cp:coreProperties>
</file>