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D63-329C-4A0F-84F9-07D560CC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E1C-D9B2-4A1F-8EB3-EF9E3DAE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823-A849-4F81-8CFA-9009D5B0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EFF-7A10-4E13-926C-AACC7548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B98-69C8-466F-8190-6766F512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B56-4C19-48CE-9E2F-77EB947A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107-BBDD-4055-A68F-F8A2EC54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F84-25E7-4B07-BCA0-E8D96D29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89E-A66B-4D24-8A2F-C28F6CF9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1FD-CD44-478D-B647-1BAD4585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D84-2654-4699-81AF-54619428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E7E-9C22-48EF-B1D4-CE6DFA97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7C5AF0-2912-4DE9-8763-6F0DCAEAB38B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 de jogos RAD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ns e Mús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odar músicas e som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Objeto Vazio (Emp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Atachar component Audio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Definir AudioClip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Criar regras de ati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Triggers podem ativar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Manter musicas tocando – verificar is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f (audio.isPlaying == 0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audio.clip = musica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audio.Pla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rquivos de Som nos principais form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Wav, aif, mp3, ogg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úsicas e efeitos longos : MP3,OGG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feitos (rápidos) FX geral : WAV, A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om 3D = de um ponto 3D no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rquivos Mono: posição 3D = caixa to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om geral (não 3D): estéreo / m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udio Listener: posição do ouvi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MS Gothic"/>
              </a:rPr>
              <a:t>Microfone em cena, ponto referên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MS Gothic"/>
              </a:rPr>
              <a:t>Um Listener em cena (necessár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MS Gothic"/>
              </a:rPr>
              <a:t>Normalmente atachado à câ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udio Source : fonte de som (emiss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MS Gothic"/>
              </a:rPr>
              <a:t>Roda som em sua posição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udio  Clip : arquivo de s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MS Gothic"/>
              </a:rPr>
              <a:t>Em suas propriedades define se 3D ou n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mportar arquivo de s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MS Gothic"/>
              </a:rPr>
              <a:t>Assets -&gt; Import new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udio C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pri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MS Gothic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MS Gothic"/>
              </a:rPr>
              <a:t>3D Sound On /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o Clip se define se 3D ou n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80000" y="909720"/>
            <a:ext cx="2382840" cy="50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odar som no jogo = incluir Audi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Audio Source roda um Audio Clip (S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Listener escuta o som ou n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riar objeto : Inserir Audi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Component : Audio : Audi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tribuir o Audio Clip para Audi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priedades do Audi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lay on Awake: na ati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Loop: repet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olume: 0.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itch: velocidade s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1 =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in Volume: volume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Não importa d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x Volume: vol ma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Não ultrapassa vol max nu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40360" y="2049480"/>
            <a:ext cx="380988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olloff Fact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Como o som desaparece por d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Quanto maior, mais perto tem que se estar para ouvir o som (posições 3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Junto aos volumes, controlam a intensidade de som por dist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odar som por Scrip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audio.Pla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audio.Sto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audio.isPlaying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(tocando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audio.clip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(define qual cl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if (Input.GetKey(“a”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audio.Pla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tilizar mais sons (clips) por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clarar AudioClips e atribuir antes de ro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Seleção dos sons pelo insp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var som1 : AudioCli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var som2 : AudioCli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audio.clip = som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MS Gothic"/>
              </a:rPr>
              <a:t>audio.Pla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979880" y="3211560"/>
            <a:ext cx="4019760" cy="2368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3-03T20:34:56Z</dcterms:modified>
  <cp:revision>64</cp:revision>
  <dc:subject/>
  <dc:title>Projeto de jogos: Ferramentas de desenvolvimento rápido </dc:title>
</cp:coreProperties>
</file>