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891-70BC-48C6-9DD5-6E3C4332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C43-FC42-4DD2-A44C-BCFEDC8D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53DB-8AE4-48B3-ABF9-52DDB0A4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E7E1-FBDC-4AE4-94F5-AAA9694B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EDFD-9765-4B02-AC6F-8031239A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223A-C25F-4C7A-825F-9ACAE25C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E3A5-696F-4948-8CF6-959A6FD1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947-34E5-4C30-8BCD-418AC704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133B-B6AE-47EC-8FA5-8CF34984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1C5-1406-4041-B4F8-23A07B1D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E26-1F0F-4104-B02B-167131B9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58C8-CC67-4E3E-95E4-AB466CAC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044C9F-4A34-47C6-8F8A-9FD9A90079A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jeto de jogos RAD: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rre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771516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xturas – possibilidade de combinar várias, e misturá-las (bl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plash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xturas livres: preferencialmente em múltiplos de quatro, para maior performance (4-8-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ecessário atribuir texturas ao terreno para poder usá-l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95640" y="4221000"/>
            <a:ext cx="640872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00200"/>
            <a:ext cx="541008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ile: número de repetições dela sobre todo o terreno = tamanho da textura (sca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intar texturas sobre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Brus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ama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pac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imeira textura – automaticamente como base g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271620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1844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avegação no terr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ouse sobre a área desejada, e tecla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entraliza visão no ponto do terr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ecessidade de luz para boa visu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uz Sol = Dire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7273800" cy="22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1844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pa de luz e sombra / Ligh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uz calculada automat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erar lightmap = melhor resolução +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ightmap = baseado em luz direcional (pos do s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rrain -&gt; Create Ligh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788000" y="3500280"/>
            <a:ext cx="4038480" cy="25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344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484280"/>
            <a:ext cx="772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1844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Árvores: colocadas direto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efabs (modelo + definiçõ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haders de alta performance (centenas de árv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ransforma em 2D (billboard) quando di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OD (level of detail – pela distancia da câm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delos árvores específicos (shader / 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esh si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ois mater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aximo de 2000 tri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Usar shaders Nature / Oc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1484280"/>
            <a:ext cx="772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600200"/>
            <a:ext cx="821844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17552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1484280"/>
            <a:ext cx="772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600200"/>
            <a:ext cx="821844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serir arvores no terr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dit trees -&gt; Add Trees (Pal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intar (colocar)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fin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amanho do br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nsidade de arv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iações básicas tama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iações básicas c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pagar = mouse + 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67280" y="836640"/>
            <a:ext cx="3033720" cy="51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1484280"/>
            <a:ext cx="772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1844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rass = grama, flor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xtura 2D (com transparência alp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serir texturas grama no terr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dit Details -&gt; Add Grass Te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finiçõe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ama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iação de c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Health = meio do br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ry = extremidades do br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3068640"/>
            <a:ext cx="35290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484280"/>
            <a:ext cx="772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1844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intar grama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finiçõe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ama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pac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ça / quant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24360" y="981000"/>
            <a:ext cx="316728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rren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lha com diferentes al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Height Map (mapa de altu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enários orgânicos, naturais : terr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nity : Terrain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ta qualidade (boa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dição e texturização em re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haders + vegetação (otimiza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1484280"/>
            <a:ext cx="772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00200"/>
            <a:ext cx="821844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792144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1484280"/>
            <a:ext cx="772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1844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ail Meshes: outros itens estáticos,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delos 3D (low-po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dras, e outros (de alta repeti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que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m tex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m vér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bjetos le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nder mo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ertex lit (pedr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rass (gra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211640" y="3213000"/>
            <a:ext cx="4535640" cy="27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1484280"/>
            <a:ext cx="772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600200"/>
            <a:ext cx="548316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figurações gerais d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istancias para detal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aximo de árvores visí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nicio para billboards (2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ento -&gt; Shader grama e arv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ovimento autom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hader pr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84720" y="476280"/>
            <a:ext cx="271944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rian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rrain -&gt; New Ter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rrenos não podem ter rotação / Fix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ametros gerais do terreno (tamanho, resoluç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rrain -&gt; Set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rrain -&gt; Set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amanho g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ltura máx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MAPs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aior resol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aior detal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aior peso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xtura final = composição de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xtura base + detalhes + splashs + (layers / texturas adiciona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19640" y="2060640"/>
            <a:ext cx="5292720" cy="25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dição do Terreno -&gt;al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colha Brush (pinc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colha do tama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pacity = suav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lick botão esquer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rreno so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senho do br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amanho escolh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uavidade edição = o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45420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ixar al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baixar ou subir altura fixa (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rush, tamanho e opa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ermina altura desej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lick botão esquer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rreno sobe /desce para altura correta (escolhi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429000" cy="39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763272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476244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mooth = suavizar diferenças de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minuir quebras brus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proxima alturas da área selecio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so de brush, tamanho e opa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34290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476244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6337440" cy="437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9:54:45Z</dcterms:created>
  <dc:creator>A.B.</dc:creator>
  <dc:description/>
  <dc:language>en-US</dc:language>
  <cp:lastModifiedBy>A.B.</cp:lastModifiedBy>
  <dcterms:modified xsi:type="dcterms:W3CDTF">2010-05-17T22:12:06Z</dcterms:modified>
  <cp:revision>96</cp:revision>
  <dc:subject/>
  <dc:title>Projeto de jogos: Ferramentas de desenvolvimento rápido </dc:title>
</cp:coreProperties>
</file>