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DBE-12D3-498C-B7E7-B4F5F8A6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B17-F6D4-4EA1-823D-42A58502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FD8-D413-44ED-A95A-12054716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D38-52ED-405A-9642-FCF760F0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BAC-D6A9-4101-AD48-6A8CA12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072-8C06-466E-85A3-01888B2F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0BF-2F12-48A2-9CE4-C0D82F5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303-453A-4072-9C62-C18A3D0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4C8-0841-4610-BB16-F581290B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6E7-0D1C-4317-9C4B-CDE87F3E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1F5-8BA0-45B7-8E75-EEEC158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992-EB7F-4031-B9AD-8CC46558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E21A-C550-4CF9-9ABA-84408063E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ty3d.com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Introdução: Unity 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 –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básicos 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4. Projec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ista de todos objetos (assets) disponíveis no projeto. Biblioteca de elementos para serem usados em jogo. Quando colocados figuram no Hierarchy view (em cena). Paleta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5. Insp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priedades específicas do objeto sele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priedades variam de tipo para tip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eitos Bás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udo utilizado no jogo é considerado um “Game Object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uras, sons, scripts, modelos, todos são Game Objects, que tem propriedades e utilização diferenci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odo material utilizado no jogo também é chamado “Assets” (Ativ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iciando um novo pro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ile -&gt; New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finir Folder e Nome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erceber diferença – projeto /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jeto – o jogo completo, composto por N c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vos projet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ssibilidade de importar pacotes de Assets prontos da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ssets padrão incluem códigos de câmera, shaders, códigos para player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 – Novo Proj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riando um novo projeto, alguns Folders padrão são cri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tório Asse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uma importância. Contém todos Assets do jogo. Não mexer / apagar / adicionar elementos pelo diretório, sim pelo jogo. Evita problemas no pro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30970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 – Novo Proj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vo Proj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GameObject: Main Camera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âmera são os olhos do player no jogo, se vê o que a câmera apo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ame View = mostra a visão atual da câmera (main), como o jogo se parece no momento (vazio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odo o game precisa de uma câm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lecionando Obje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leção: Click sobre o Obj no Sce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leção pelo Hierarchy View, por 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entralizar objeto – Tecla “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strar no Scene View (mouse sobre a vie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ximizar view atual – Tecla “Espaç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 o mouse sobre a view a ser maxim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64000" y="4653000"/>
            <a:ext cx="2521080" cy="465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vimentação básica no Scene 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as / Cursores (movimento g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use Scroll (zoom in /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use Botão Dir ( Rotação da 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LT  = Ey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use Esq = orbitar ponto central ou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  = Hand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use Esq = Pan na cena em todas dire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435640" y="3645000"/>
            <a:ext cx="2376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and Tool + Shift = movimentação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use Esq. = pan com maior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TRL  = Zoom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use Esq.  = Zoom in /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embrar “F” = centraliza objeto selecionado na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cene Giz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stra a orientação atual da Scen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mite alterar rapidamente a visualização da ce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er de cima (top) :  Click Eix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er frontal (front): Click Eixo 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erspectiva: Click no Quadro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dição padrão (ger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4 views: top, front, left, Persp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2000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dicionando Objetos simples: Primi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ame Object -&gt; Create 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ps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- Criar Pl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hão para nosso exem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313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rodução a Unity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lementos d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enári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onentes prontos  (assets libr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ame View: plano pode não aparecer diretamente – precisa estar dentro da visão da câm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lterar propriedades de Game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lo Insp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rans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84720" y="3357720"/>
            <a:ext cx="4176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lterar propriedades de Game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lo Scene View (visual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Q = Hand Tool = Pan na 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W = Translate tool = mover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 = Rotate Tool = mudar ângulos X, Y,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 = Scale Tool = alterar esca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2565360"/>
            <a:ext cx="41054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ação uniforme ou disfor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colha eixo único, ou todos (uniforme / liv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848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serir mais algumas primitivas, blo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ntar mini-cenário básico, paredes, labir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star / Treinar edição bá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osicionamento de ele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o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serir uma Point Light (melhora a visualiz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uplicar Objet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o selecionado = CTRL +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mear objetos facilita nossa vi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lo Hierarchy: dois clicks no 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odar j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UITA ATE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 o Jogo rodando (play mode), podemos alterar a cena, modificar posições, e tudo mais, porém estas opções / alterações são perdidas quando se volta ao modo de edi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ra Básica: Play para teste, porém nunca esquecer de desligar o play para voltar a ed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163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4130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Jogo Rodando: nada acontece (ai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ecisamos de códigos para ter ação, interaç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emplo inic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r código pronto, do “Standard Ass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serir Camera Script : Mouse Look em nossa Main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413000"/>
            <a:ext cx="36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tandar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serir Camera Script: Mouse Look em nossa Main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rag Drop do código sobre o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odar Jogo (P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ovimento básico de câmera, mouse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7527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413000"/>
            <a:ext cx="4608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ponente inserido aparece no Inspector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ssível ligar e desligar compon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vas Opções visíveis, de acordo com o código / ele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021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utro “Standard Ass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fab -&gt; First Person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serir = Drag-Drop para a Sce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mos um player em 1a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Sem esforço, mas sem conheci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bser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e elemento é 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efab, composto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utros 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97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ividade : completar nosso cenário básico para continuação nas próximas a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erramenta de Desenvolvimento de Jogos 2D e 3D (Eng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nity3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são gratuita (limitações bás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são pro (U$ 1,5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+ Pacotes adicionais pagos (Wii, iPh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ditor de mapas integra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nderer DirectX e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lta-Compatibilidade modelos 3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ilação: Mac, Windows,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cotes especiais: Iphone, W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haders (Cg, GLSL) + Post-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rrain Editor –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gine Física – Ageia Phy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os de arqu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8203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cripts / Cód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avaScript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oo (variação Phy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mântica básica semelhante ao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ferenciação Maiúsculas / Minús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inalização de linhas de comando com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 –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1927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 –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ayout Altamente customiz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rag-drop das abas / jan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ayouts pré-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Window -&gt;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adrão: 2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ayout ide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colha o s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ayouts por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038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 –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bás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. Scen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locar objetos no jogo, posicionar, editar o mapa de ce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. Gam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ew in-game, como o jogo aparecera rodando. Baseado na posição inicial da camera (m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. Hierarchy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ista de todos objetos utilizados no jogo (na cena em edi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3-03T20:34:56Z</dcterms:modified>
  <cp:revision>64</cp:revision>
  <dc:subject/>
  <dc:title>Projeto de jogos: Ferramentas de desenvolvimento rápido </dc:title>
</cp:coreProperties>
</file>