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90E9-D95E-4D1E-A9A4-1FF20F19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8F01-D6A0-4B9F-BCDA-0A98B02A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38A9-E98C-468A-A5FF-AB4E1492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6D79-0A73-4F01-B6AB-29C24426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BF76-6104-46D8-8DDD-50936758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E6B8-F4C0-4EA7-A1E0-141E6B1E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A028-53B3-4E38-8618-360F4ACA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A59F-4360-4641-92B9-DD4D7304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5D12-9ACE-4F4A-8A4D-46F01CD2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3923-6841-45EC-B747-9B856994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299C-5EAE-441B-85D7-E58558E5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04FA-233D-49D7-AD0E-204B59D4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AD28-3B9B-40E8-AB1D-6EF4602A0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jetos RAD : Unity 3D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Introdução II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enting e Prefa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- Pref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empre = Alterações no Prefab, no Project View (objeto original: passa automaticamente para todas instância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sível = alterações nas instâncias (não recomendado em g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EFAB = objetos complexos / compostos, para reutiliz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435640" y="4437000"/>
            <a:ext cx="288144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- Pref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emplo us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riar Prefab dos módulos básico de pare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(cena básica inic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icionar algumas instâncias no ma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(drag-drop do prefab sobre a Scene vie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ição / rotação das instâncias = indep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ntagem: objetos complexos, derivados, porém autônom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- Pref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emplo us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odifiquemos o Prefab (GameObject Orig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serir Material Básico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riar novo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efinir cor básica do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plicar material em elemento do Prefa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odificação será vista em todas instâncias do Prefab (automaticam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- Pref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aterial bás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riar novo material (Assets - &gt; Create -&gt; Mater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finir Main Colo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55640" y="2781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643280" y="2421000"/>
            <a:ext cx="396108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- Pref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aterial bás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priedades do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esh Rende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00720" y="1413000"/>
            <a:ext cx="37908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trodução e Edição (continuaçã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re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ef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gras adicionais (sintax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GameObjects = nome com letra inicial maiúsc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ariáveis = nome com letra inicial minúsc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unções = nome com letra inicial maiúsc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- Ediçã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dição M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uplicar obj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TRL +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bservar repetição de nomes (objs),  permitido porém, nomes únicos = maior organização e facilida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nomear objetos = click nome (hierarch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- Pare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re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bjetos “Agrupados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arent =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hilds = sub-objetos, dependentes / relacio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lterações no Parent = afetam chi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o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ov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hilds podem ser editados individu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- Pare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ar relação Parenting x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rag-drop objeto Child sobre objeto 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4360" y="2781360"/>
            <a:ext cx="4248000" cy="2655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364000" y="3933720"/>
            <a:ext cx="30718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- Pare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rent = objeto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hilds = objetos rela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(passam a ser dependen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mover relação Parent x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rag-drop objeto Child sobre objeto 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- Pref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efab diferente de Pare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renting = grupos básicos (relaciona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efa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totipação de objetos complexos / compo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utilização : instâ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lteração no Prefab  = altera todas instâ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acilidades 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Grupo de objetos : relação Parent-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antém e acompanham posicão, rotação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emplo: árvores, inimigos, balas, iten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- Pref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ar Prefa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iciar um Prefab vazio (preferenci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ssets -&gt; Create -&gt; Pref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omear Pref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rag-drop objetos sobre novo prefab (Project Vi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403848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9:54:45Z</dcterms:created>
  <dc:creator>A.B.</dc:creator>
  <dc:description/>
  <dc:language>en-US</dc:language>
  <cp:lastModifiedBy>A.B.</cp:lastModifiedBy>
  <dcterms:modified xsi:type="dcterms:W3CDTF">2010-03-10T20:49:41Z</dcterms:modified>
  <cp:revision>70</cp:revision>
  <dc:subject/>
  <dc:title>Projeto de jogos: Ferramentas de desenvolvimento rápido </dc:title>
</cp:coreProperties>
</file>