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0615-C736-4700-BA8D-9CE91F5A0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19B3-5EAB-41ED-B459-1DF5933D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E2EF-30F5-40B9-A549-8BA1BFEE7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8C29-8540-4201-8A5A-D5F996471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0226-1E43-462A-A075-F5F3E12B5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81C6-AD14-4BEB-8269-D9AD86D3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58E4-7B99-4E77-9628-226B5D094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B344-66B3-4C45-A7C1-296A41CC6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D2A4-1BB3-4643-827F-39A100F4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12C6-AD29-41C0-BFE7-F5905A0E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F154-E003-427C-BAFA-5FBCD90F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90FF-F1A8-426A-ADED-F16DED3F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9179-7D1A-4028-B982-C75B9C645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Projetos RAD : Unity 3D</a:t>
            </a:r>
            <a:br>
              <a:rPr sz="4000"/>
            </a:b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Scripts Parte 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usto Bü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: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ovimento provavelmente ráp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Necessidade de definir velocidades adequ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Necessidade de perceber o Frame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odando a 60 FPS ( 60 updates por segun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odando a 200 FPS ( 200 por segun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= Resultados muito diferentes pelo F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X: adicionar um grau a rotação, sem controle de FPS rotaria de acordo com o número de update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: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rreção de valores pelo F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ime.deltaTime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Gera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multiplicamos valores pelo deltaTime = garantia de adaptação a diferentes FRAME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nde us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Movimentos, rotações, timer e cálculos em geral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nde NÃO Us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álculos fixos, estatística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úmero de tiros, pontos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: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daptando nosso Script Básico de movi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apturamos / Percebemos o Inp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ultiplicamos o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ela velocidade (max. que querem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elo tempo (Time.deltaTim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Necessidade para adaptação a FRAME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: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function Update () {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//CAPTURA INPUT BAS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var forca_horizontal = Input.GetAxis("Horizontal");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var forca_vertical = Input.GetAxis("Vertical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//CRIAMOS VAR = VELOCIADE DO MOV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var velocidade = 10;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//MULTIPLICAMOS INPUT POR VELOCIDAE E TEMPO forca_horizontal *= velocidade * Time.deltaTi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forca_vertical *= velocidade * Time.deltaTim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//PASSA COMO TRANSLATE = movimento traduzido transform.Translate(forca_horizontal, 0, forca_vertica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: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Variáveis Exposed / N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xpos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Colocadas fora de funções (início do Scrip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odem ser acessadas / alteradas pelo Insp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//fora de funções = var expo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var velocidade = 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function Update () {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140360" y="4221000"/>
            <a:ext cx="4644720" cy="17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: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nputs adiciona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nput.GetButtonDown("Jump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nput.GetButtonDown(“Fire1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etorno: 1 = pression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x: fire1, leva objeto para ponto da cen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(Input.GetButtonDown("Fire1")) {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form.position.x = 0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form.position.y = 0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form.position.z = 0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: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Vector3(X, Y, 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Vetor de 3 posiçõ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Muito utilizado, passagem de três parâmetros diretament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(Input.GetButtonDown("Fire1")) {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/transform.position.x = 0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/transform.position.y = 0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/transform.position.z = 0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/MESMO RESULTADO  = única linh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form.position = Vector3(0,0,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: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nput = Teclas especif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nput.GetKey(“x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x. Teclas O e P modificam rotação Y básica do ob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f (Input.GetKey("o")) {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ransform.rotation.y -= 1 * Time.deltaTime;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}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f (Input.GetKey("p")) {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ransform.rotation.y += 1 * Time.deltaTime;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: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ntrole de velocidades, fato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= Utilizar Variáv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xpor Variáveis = facil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est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odificar a rotação, usando velocidade por variá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xpor a variável (permite alterar pelo inspec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egra PLA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dição durante Play mode é temporá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(perdida quando desligamos pl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nten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Testar novos parâmetros durante game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Ganho tempo, resultados experimentados diret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EX: mudar velocidades p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042920" y="4983120"/>
            <a:ext cx="2808360" cy="10209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5219640" y="4221000"/>
            <a:ext cx="3492720" cy="18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: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cripts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ntrole do jogo (interativida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ções game baseadas em tempo /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ções game baseadas em intenção 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nput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valiar teclas e controles (mouse e jo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xecutar ações necessár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: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riar um Scrip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ssets -&gt; Create -&gt; Java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Renomear Script (organização): Move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uplo click para edi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(UniSciTE : Editor scrip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859280" y="4221000"/>
            <a:ext cx="363528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: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cripts iniciam com função Up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function Update() { 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Update(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vai rodar função (o que estiver dentro) a cada ciclo de jogo - a cada tela renderiza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Várias funções nomes próprios, auto executadas com respectivos eventos, E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wake(): quando executado  a primeira v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OnCollisionEnter(): quando co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tc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: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ovimento básico de objeto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lterar propriedades transform do objeto, Position X, Y,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erceber intenção = Inp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Gerar o movimento baseado no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: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aptar Input Bás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Input.GetAxis("Horizontal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urier New"/>
              </a:rPr>
              <a:t>Input.GetAxis(“Vertical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urier New"/>
              </a:rPr>
              <a:t>Recebe (auto) teclas WASD, Setas (cursores) e Joysticks (Joyp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urier New"/>
              </a:rPr>
              <a:t>Valores de Retorno:  -1.. 0 .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urier New"/>
              </a:rPr>
              <a:t>0 = sem m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urier New"/>
              </a:rPr>
              <a:t>Joystick = valores intermediários / 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urier New"/>
              </a:rPr>
              <a:t>Teclas = valor Maximo direto (1, 0 ou 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: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odifican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urier New"/>
              </a:rPr>
              <a:t>function Update () {</a:t>
            </a:r>
            <a:r>
              <a:rPr b="0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Courier New"/>
              </a:rPr>
              <a:t>//CAPTURA INPUT BASICO</a:t>
            </a:r>
            <a:r>
              <a:rPr b="0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Courier New"/>
              </a:rPr>
              <a:t>var forca_horizontal = Input.GetAxis("Horizontal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Courier New"/>
              </a:rPr>
              <a:t>var forca_vertical = Input.GetAxis("Vertical");</a:t>
            </a:r>
            <a:r>
              <a:rPr b="0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Courier New"/>
              </a:rPr>
              <a:t>//MOVE  COM TRANSLATE = movimento traduzido transform.Translate(forca_horizontal, 0, forca_vertic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Unity : Scri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transform.Transl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ovimento traduzido = pela orientação do objeto (ângulo para onde apon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3 parametros: X, Y,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Forma direta = altera o objeto a qual o script está atach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tachar Script = drag-drop sobre ob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9:54:45Z</dcterms:created>
  <dc:creator>A.B.</dc:creator>
  <dc:description/>
  <dc:language>en-US</dc:language>
  <cp:lastModifiedBy>A.B.</cp:lastModifiedBy>
  <dcterms:modified xsi:type="dcterms:W3CDTF">2010-03-15T21:37:59Z</dcterms:modified>
  <cp:revision>86</cp:revision>
  <dc:subject/>
  <dc:title>Projeto de jogos: Ferramentas de desenvolvimento rápido </dc:title>
</cp:coreProperties>
</file>