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482-5754-47F9-B77E-23B3676E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94D-DF6B-4AE1-9D2E-4DE7AF11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CFB-ADB4-4F5A-876B-0F6121A4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EB0-6593-42F9-89AE-744F8C88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BF3-69C3-4298-BE83-DFA07CA2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857-A63D-4DEB-B77C-A47AB039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D37-690D-42F1-9209-EC8B798E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CEF-0B50-4CD8-89FD-6182BFEB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B4C-C65D-46AC-B324-9351F7BC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7AB-80C4-4A30-A8EB-CBBBD302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838-5650-4DE0-848B-5481D208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356-9675-4B19-BB25-6920CAE2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6F52-E62F-489C-992A-382A0C9DF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s RAD : Unity 3D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olisões Part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lisões em geral usando primitiv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ox, Sphere, Caps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lisão Mesh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enas em situaçõe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Wheel / Ray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eículos com funcionamento f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sível criar Collider comp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ar objetos com hierarqu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ar Collider com primitivas para cada parte (chi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unciona como Collider único (ligados por hierarqu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imulação de Mesh e objetos complex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53276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6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llider = forma para col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odos objetos que se deseja perceber a colisão precisam  ter um Collider ata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bjetos apenas com collider = Static Coll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táticos, não se espera grandes mov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ão se detectam grandes colisões em g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ponentes adicionais para colisões mais comp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imulação física = Rigid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ersonagens = Character Contr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igidBody – ativa física para um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trole do objeto passa a ser gerido pela engine fís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age automaticamente com outros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sui massa específica (pe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sui fricção, elasticidade (Physics Materi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uncionamento autônomo – baseado em coli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sível mover por propriedades trans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Quebra do realismo físico (possí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vimento com forças fís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mandos espec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43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igidBody Te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r cena com pilar básico (StaticCollider) e cubos com componente RigidBox (fís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dicionando Rigid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ponent-&gt;Physics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igid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40384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layer (Físico) códig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terações com fís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unction FixedUpdat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unções força para Rigid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ddForce(x,y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iciona forças ao corpo, baseadas nas coordenadas mundi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ddRelativeForce(x,y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iciona forças ao corpo, baseadas nas coordenadas atuais do objeto (suas rotaçõ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ódigo básico teste Add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velocidade =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forca : Vector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ction FixedUpdate () {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CAPTURA INPUT BASICO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.x = Input.GetAxis("Horizontal")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.y = 0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.z = Input.GetAxis("Vertical")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Multiplicamos  vetor pela velocidade dese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 *= velocidade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igidbody.AddForce(forca)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ddForce = sem muita precisão (dire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portamento físico realístico faz rotar com colisões automatic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para forças realísticas sobre objetos físic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jogar um objeto em alguma dir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sultado: depende das colisões encont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ddFo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orças em relação aos eixos mund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ddRelativeForce(x,y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orças adicionadas em relação aos ângulos atuais do objeto (sua orient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uncionamento semelhante (física realíst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sultado completamente dif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ste: substituir códi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//rigidbody.AddForce(fo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igidbody.AddRelativeForce(fo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vePosition(x,y,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ve objeto físico para nova posição (tenta mo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ção mund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= utilizar posição atual + movimento dese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ste caso utilizar deltaTime para movimento compatível / escalado pelo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ultiplicar movimento por Time.delta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ddForce = não se usa delta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Já incorporado pela engine fí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isões = essencial em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rtamento de acordo com a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isão chão, pare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rtamento com outros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isão com outros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r área a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ros, bôn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 Move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ction FixedUpdate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.x = Input.GetAxis("Horizontal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.y = 0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.z = Input.GetAxis("Vertical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 *= veloc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 *= Time.deltaTi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orca += rigidbody.posi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igidbody.MovePosition(forc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ansformar vetor de forças em relação a uma orientação / âng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unção específica da classe Trans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ransform.TransformDirection(x,y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verte vetor de forças X,Y,Z para equivalente em relação a orientação do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dicionar ao código a lin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orca = transform.TransformDirection(fo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bjetos com colis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ponente Coll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dicionado por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ferentes tipos de Coll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is adequado a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ior / men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dicionável p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ponent-&gt;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24180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31687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llider: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lisão básica, boa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ceita dimensões diferentes em X,Y,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tilização g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aredes, caixas, objetos, personage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4025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llider: 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lisão básica, mai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mensão única: 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tilização g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bjetos esféricos,  personage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0243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llider: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ilindro com meia esfera em cada po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ior process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uas Dimens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ltura e 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figuração adicional: ori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tilização g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ersonagens e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36003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llider: M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produz a malha real do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ltra process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stri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eshs com 255 faces máx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Mesh collider não colide com outro mesh collide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Uso quando necess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ral outros colliders são mais adequ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40928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llider: W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oda: especial para veículos com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âmetros para funcionamento como motor (fís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stancia básica por 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so exclusivo: veículos com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llider: Ray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aio simples para determinar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so específico para alguns veículos / obj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spara um raio do centro para ba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heca colisõ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ltura solo bas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14784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3-24T21:57:12Z</dcterms:modified>
  <cp:revision>104</cp:revision>
  <dc:subject/>
  <dc:title>Projeto de jogos: Ferramentas de desenvolvimento rápido </dc:title>
</cp:coreProperties>
</file>