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DB5-3DD9-45E4-9994-31F82A4D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BD6-865B-4E6A-9CF2-1004936B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9FF-3561-44BD-9715-42A2272A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C21-130E-426B-822D-B35589B6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C84-C84E-47FB-A8B3-EDCF3D47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6E8-1C6B-41C7-AAC8-5000106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5B9-CDB4-46E8-B6EB-261A4B0F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5F0-205E-4A03-B9A2-9F4F834E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97B-0945-45DD-B059-DF5B121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CD5-8A6E-4000-B219-2A8798E0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955-A1DF-4534-996D-72EED2D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10B-4330-4723-B0D4-6F0064E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4B24-AF4A-49FC-A35C-4A15F27AE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s RAD : Unity 3D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lisões Parte 2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racter Controller e Trig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ndo pulo básico – força y (por tecl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asicamente aplicar força y (p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ravidade devolve ela a zero (ao s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icionalmente – só pular se no chão (isGrou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 forca_pulo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no_chao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. (antes do controller.Mo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(Input.GetKeyDown("space") &amp;&amp; no_chao == 1) {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ca.y = forca_pu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FLAG atualizada após o Mo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controller.isGrounde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o_chao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tando colisões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isões disparam mensagens para os objetos 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isões em geral (Collid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nCollision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nCollisionSt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nCollision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isões Character Controller 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nControllerCollider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o que colidiu também é passado na mensagem (pontei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racter Controller : Colisão bá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ebe um ControllerCollider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ível acessar propriedades do objeto coli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nsage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nControllerColliderHi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tornar o nome do objeto colidido em um Gui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OnControllerColliderHit (quem : ControllerColliderHit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bug = GameObject.Find("Debug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bug.guiText.text = "Colisao: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bug.guiText.text += quem.gameObject.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igidBody e Colliders nor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ebe um Coll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ível acessar propriedades do objeto coli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nsagen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nCollision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serv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haracter Controller uso diferen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OnCollisionEnter (quem : Collider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bug = GameObject.Find("Debug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bug.guiText.text = "Colisao: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bug.guiText.text += quem.gameObject.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igger = Gatil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isões especiais – objetos de mar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ão esperada colisão com reação dire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isão  para ativação ou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bjeto basicamente passável (mas detecta a colis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ônus e i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dicar entrada em parte do cenário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ensagens Espec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nTrigger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nTriggerSt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nTrigger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48360" y="4076640"/>
            <a:ext cx="33526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igger : Exemplo Col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OnTriggerEnter (quem : Collider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bug = GameObject.Find("Debug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bug.guiText.text = "Colisao TRIGGER: 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bug.guiText.text += quem.gameObject.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Remove item que colid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stroy(quem.gameObje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isões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lider : formato da col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táticos (static colli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nâmicos : componentes a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igidBody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vimento e comportamento físico (realís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haracter Controlle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mponnte especial para p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tecção de colisões g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trole mais direto (física = simulação aut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racter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sonagens em geral controlados por animações e ações, sem necessariamente um comportamento realístico 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tiliza-se Character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ior controle geral (estável em colisõ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ações baseadas principalmente em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ando personagem planejado para ter física re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tiliza-se Rigid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ortamento imprevisível (realíst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ações automáticas baseadas em coli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racter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iciona-se p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onent-&gt;Physics-&gt;Character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brepõe o Collider anterior d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de ser utilizado com RigidBody, mas sua utilização é alternativa (à física realís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haracter controll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andos específicos para controle / mo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racter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lope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mite para subida em rampas (gra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tep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ura subida degr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kin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lores maiores para evitar colisões próximas (grudar = stu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9272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cessar o componente Character Controller não pode ser diret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cisa localizar o componente c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 ponteiro = GetComponent(CharacterContro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tComponent pode ser usado para acessar qualquer componente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mar pelo nome, sem espaços, sem a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haracter Controller : função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ódigo básico para movi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velocidade =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forca : Vector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CAPTURA INPUT BASIC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x = Input.GetAxis("Horizontal"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y = 0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z = Input.GetAxis("Vertical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 *= veloc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 *= Time.delta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controller = GetComponent(CharacterControll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troller.Move(forca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usa gravidade di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m Flags auxili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adas com o mo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sGrounded = no ch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lisionFlags = detalhes da col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ndo gravidade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icamente aplicar força y (gravi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 gravidade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Updat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CAPTURA INPUT BA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x = Input.GetAxis("Horizontal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forca.y = 0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z = Input.GetAxis("Vertical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 *= veloc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//APLICANDO GRAVIDADE S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orca.y -= grav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 *= Time.delta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3-29T21:59:38Z</dcterms:modified>
  <cp:revision>107</cp:revision>
  <dc:subject/>
  <dc:title>Projeto de jogos: Ferramentas de desenvolvimento rápido </dc:title>
</cp:coreProperties>
</file>