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FC3-8EEA-4CAA-90CA-9D05BDA9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2AD-5DEA-4979-80BF-A635250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C8C-35BE-4DEC-87FA-04698F2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37F-585A-40FF-A0A9-DB407BF0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F16-31D9-4D71-BE56-3734A2DA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2AC-611A-4DD9-952A-BC0BD476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CE5-C090-4DDC-84B9-53E9119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8EA-4750-4931-8208-CDB66B0B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79E-A9E5-42B0-8A44-08A040B5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29C-4EAD-4A50-9662-8AC4EFE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B38-704B-460B-8756-29E0F61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FFF-4466-45E1-BD87-B95A3E9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7652-9BC6-4273-99E8-81E4E983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iação de Instâncias e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tação = Quater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ipo específico da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onentes X,Y,Z,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Ângulos são interpolados pela Unity, não modificar elementos man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perações / funções especificas para transformação de â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s bá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aternion.identity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Ângulo 0,0,0 perfeitamente alinhado com eixos do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aternion.Euler(X, Y,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versão direta de graus (X,Y,Z) para Quater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utros exemplos de criação múltip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clone2 : Trans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6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 10 instancias do clone2, 2 unidades de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 (var i=0; i&lt;10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tantiate (clone2, Vector3(i * 2.0, 0,0),Quaternion.identit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r objetos por scri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as: objetos básicos e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âncias: objetos complexos, pré-modu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g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ar inimigos e itens em t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ar balas e dispa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ar objetos auxiliares (diver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ar cenários em t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 = imaginaçã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um novo objeto : primi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ameObject.CreatePrim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r tipo de prim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//criando objeto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(Input.GetKey("1"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ameObject.CreatePrimitive(PrimitiveType.Cube)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s de primitivas vál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itive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os criados são posicionados na origem do mundo inicialmente. Coordenadas (0,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manter uma referência ao objeto na cr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sua referência (ponteir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ualizar suas propr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r componentes em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2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novo = GameObject.CreatePrimitive(PrimitiveType.Cub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colocar novo objeto em posição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vo.transform.position = Vector3( 2, 2,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ndo um componente a um obj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ameObject.AddComponent(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igid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phereCollid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criptName” ou “AssetNa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2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novo = GameObject.CreatePrimitive(PrimitiveType.Cub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vo.transform.position = Vector3( 2, 2,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vo.AddComponent(Rigidbod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ndo um objeto vazio (emp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ível atribuir um 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ível adicionar todos componentes man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w GameObject(“nom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(Input.GetKeyDown("4"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vo3 = new GameObject ("Vazio");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3.AddComponent ("Rigidbody")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3.AddComponent ("BoxCollider")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3.transform.position = Vector3( 1, 1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ndo uma Instâ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seado em objetos prefab (precisa de um pref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efab: objetos complexos, com materiais, códigos, componentes já atachados = re-uti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ux = Instantiate( original,  posição, rotaçã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iginal  = algum prefab pre-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= Vector3(X, 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tação = Quater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 de Insta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Declarar quem será instanciado – selecionável pelo insp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lon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: Trans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5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vo4 = Instantiate(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lon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transform.position,transform.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4-12T21:46:06Z</dcterms:modified>
  <cp:revision>118</cp:revision>
  <dc:subject/>
  <dc:title>Projeto de jogos: Ferramentas de desenvolvimento rápido </dc:title>
</cp:coreProperties>
</file>