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2E3-5783-4A39-BD22-D08504EC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AEA-5FEF-4B4A-9DE9-9BBD3B61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A9D-E7EE-4720-A9C0-AEECFF35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BEB-9F0C-479B-885B-33D971E7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014-1261-4D85-80F0-CDB75D85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2E0-446D-41E9-981E-D8CDE09A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323-5203-4F04-8D0B-4FC6DCA9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4A7-6F51-442C-B7A2-AD42A916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5D4-17BD-4F94-A6AF-1B58D46F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B77-CEEA-4D28-AC9A-3A47FBF9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02F-AA28-4152-8E26-833AD296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BF3-B93B-4D3D-BB4C-DC9011C1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6D09-3BBF-4550-A384-AFA02F061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Projetos RAD : Unity 3D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teriais, Texturas e Lu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haders estão diretamente relacionados aos materiais, na 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ha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ombreadores – adicionam luz, sombra na im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cessamento adicional sobre a imagem visí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por pixel, por vér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ecessidade de processamento (elev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elhora considerável na imagem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mulação de detalhes sem necessidade de malha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arba, vincos de uma parede, pelos, glow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eção de Shaders 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erca de 30 shaders, em 6 famílias bá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haders B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. Bum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mulação de relevo na tex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pa azul / magenta auxil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56000" y="4221000"/>
            <a:ext cx="2022480" cy="2022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2017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finindo um shader Bump, um “mapa azul” será necessá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versão de Bmaps em Bump, DOT3 : programas aux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versão na Unity, durante a importação do Bma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lag: Generate Bump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r material muro-b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495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haders calculados em relação a incidência de luz sobre a superfície / sobre o pixel espec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cessidade de Luz defin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is especificamente, direção do Sol no j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utras fontes pontuais de luz atuando no objeto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uz dá vida ao Shader (e ao g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7201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ion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simulação de luz do 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veniente de um ponto no infinito, até o in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bre todo mapa, e têm uma direção (ângulos X, Y,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ção X,Y,Z principalmente para efeitos F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lhando para o sol = camera f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ível alterar pos e ângulo em tempo-re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mulação do 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4448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–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oin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ponto de lu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bertura ou alcance da luz =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bertura esférica em relação a seu cen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finição de C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ttenuate: diminui em relação a distâ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feitos adiciona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lare: brilho na câmera, quando visí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raw Halo:  simulação de luz volu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3311640" cy="2222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580000" y="3751200"/>
            <a:ext cx="33130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–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67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int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– ponto de lu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odos parâmetros alteráveis em tempo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r tempo =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unction Update () {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empo += 1 * Time.deltaTi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(tempo &gt;= 0.5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empo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r luz = GetComponent(Ligh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(luz.range &gt; 0) {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nderer.material.color.r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luz.range = 0;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lse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nderer.material.color.r = 25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luz.range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po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faixo de luz direcional, com cone de aber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pot: uma lanterna ou refle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ametros b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r, intens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pot Angle : ângulo de abertura do 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ua direção (ângulos) é fu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312408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4005360"/>
            <a:ext cx="37720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emplo bás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tachar Spot ao 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ocar o spot como CHILD do player (hierarqui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44640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-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emplo básic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pot fixo olha / aponta para objeto em movi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quem : Trans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Update () {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LookAt(que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ansform.LookAt(obj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a os ângulos para apontar para (look at) posição do objeto deter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teriais = imprimir texturas e efeitos sobre formas e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ortância das tex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s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ura = bitmaps represen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fei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âmetros gerais de reflexão e 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h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ur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itmaps em basicamente todos os form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BMP, TGA, JPG, GIF, T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strições de tamanhos (textura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argura e comprimento precisam ser em potencia 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: 64x 64 (pixels), 256 x 512, 1024x128, 1024x1024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ceito T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uras preparadas para repeti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ados da textura se conectam sem marcas visi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ile 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ura onde os lados se encai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petição, definição de escala = número de repeti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0384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s Textur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JPG – arquivos compac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erda em qualidade g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cessamento : descompactar em tempo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GA, 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rquivos com camada ALP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pa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so da camada ALPHA em alguns Sh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s Textur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ansparência = camada alpha (TGA, TIF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ranco = sólido, vis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eto =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rayscale = nível de transpa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987640" y="3933720"/>
            <a:ext cx="33847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ndo Materia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mportar BMAP – tex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ssets -&gt; Import New Asset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ocalizar BMP: exemplo muro01.b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r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ssets -&gt; Create -&gt;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iffuse : material bá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lecionar BMAP da 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ffuse: material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p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ura + coloração 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ção de T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petição em X e Y na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ffset: deslocamento em pixels X e Y = alinhamento da textura na superfíc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51640" y="981000"/>
            <a:ext cx="3043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ibuir material à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lecionar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onente Render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terial -&gt; Seleci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finição de tiling por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ível criar mais de um material com mesmo BMP, e diferentes Til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: criar material muro1-mini, com tiling dierente e apl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3168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4-14T21:48:52Z</dcterms:modified>
  <cp:revision>126</cp:revision>
  <dc:subject/>
  <dc:title>Projeto de jogos: Ferramentas de desenvolvimento rápido </dc:title>
</cp:coreProperties>
</file>